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0.gif" ContentType="image/gif"/>
  <Override PartName="/ppt/media/image8.png" ContentType="image/png"/>
  <Override PartName="/ppt/media/image5.gif" ContentType="image/gif"/>
  <Override PartName="/ppt/media/image16.png" ContentType="image/png"/>
  <Override PartName="/ppt/media/image15.png" ContentType="image/png"/>
  <Override PartName="/ppt/media/image14.png" ContentType="image/png"/>
  <Override PartName="/ppt/media/image9.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C137A1-78F0-4F93-88C9-0F2B70D82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FFE18-6127-45B1-AEDE-FBA1DEC46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D8A0E7-864A-4E33-9E70-B5367D35A9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31E8E0-05B6-496F-B4D6-AD760C15DE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F2895-FCB0-443E-9095-3B603B46A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329AC-F946-4675-B659-C8975D4AE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BF46C-E2D1-42E4-8AB8-D44733965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58866-4579-43D2-B2D2-5C1F1EE07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F11C0-3007-40B4-B6C5-D9065A0D7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7A527-7386-4EA0-BA9B-D53A940BD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B792E-C11B-46C5-ABC7-1F84D5103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5D52A-3957-4B84-A580-D5E50C9BF3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1822B-93C1-42A6-9AC4-ED1488E426F1}"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 Target="slide12.xml"/><Relationship Id="rId3" Type="http://schemas.openxmlformats.org/officeDocument/2006/relationships/image" Target="../media/image10.gif"/><Relationship Id="rId4" Type="http://schemas.openxmlformats.org/officeDocument/2006/relationships/slide" Target="slide13.xml"/><Relationship Id="rId5" Type="http://schemas.openxmlformats.org/officeDocument/2006/relationships/image" Target="../media/image10.gif"/><Relationship Id="rId6" Type="http://schemas.openxmlformats.org/officeDocument/2006/relationships/image" Target="../media/image10.gif"/><Relationship Id="rId7" Type="http://schemas.openxmlformats.org/officeDocument/2006/relationships/image" Target="../media/image10.gif"/><Relationship Id="rId8" Type="http://schemas.openxmlformats.org/officeDocument/2006/relationships/image" Target="../media/image10.gif"/><Relationship Id="rId9" Type="http://schemas.openxmlformats.org/officeDocument/2006/relationships/slide" Target="slide3.xml"/><Relationship Id="rId10"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0.gif"/><Relationship Id="rId3" Type="http://schemas.openxmlformats.org/officeDocument/2006/relationships/image" Target="../media/image10.gif"/><Relationship Id="rId4" Type="http://schemas.openxmlformats.org/officeDocument/2006/relationships/image" Target="../media/image10.gif"/><Relationship Id="rId5" Type="http://schemas.openxmlformats.org/officeDocument/2006/relationships/image" Target="../media/image10.gif"/><Relationship Id="rId6" Type="http://schemas.openxmlformats.org/officeDocument/2006/relationships/slide" Target="slide15.xml"/><Relationship Id="rId7" Type="http://schemas.openxmlformats.org/officeDocument/2006/relationships/slide" Target="slide3.xml"/><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4.xml"/><Relationship Id="rId3" Type="http://schemas.openxmlformats.org/officeDocument/2006/relationships/slide" Target="slide10.xm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1.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slide" Target="slide3.xml"/><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 Target="slide3.xml"/><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 Target="slide3.xml"/><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4.xml"/><Relationship Id="rId3" Type="http://schemas.openxmlformats.org/officeDocument/2006/relationships/image" Target="../media/image3.png"/><Relationship Id="rId4" Type="http://schemas.openxmlformats.org/officeDocument/2006/relationships/slide" Target="slide5.xml"/><Relationship Id="rId5" Type="http://schemas.openxmlformats.org/officeDocument/2006/relationships/image" Target="../media/image3.png"/><Relationship Id="rId6" Type="http://schemas.openxmlformats.org/officeDocument/2006/relationships/slide" Target="slide6.xml"/><Relationship Id="rId7" Type="http://schemas.openxmlformats.org/officeDocument/2006/relationships/image" Target="../media/image3.png"/><Relationship Id="rId8" Type="http://schemas.openxmlformats.org/officeDocument/2006/relationships/slide" Target="slide7.xml"/><Relationship Id="rId9" Type="http://schemas.openxmlformats.org/officeDocument/2006/relationships/image" Target="../media/image3.png"/><Relationship Id="rId10" Type="http://schemas.openxmlformats.org/officeDocument/2006/relationships/slide" Target="slide8.xml"/><Relationship Id="rId11" Type="http://schemas.openxmlformats.org/officeDocument/2006/relationships/image" Target="../media/image3.png"/><Relationship Id="rId12" Type="http://schemas.openxmlformats.org/officeDocument/2006/relationships/slide" Target="slide9.xml"/><Relationship Id="rId13" Type="http://schemas.openxmlformats.org/officeDocument/2006/relationships/image" Target="../media/image3.png"/><Relationship Id="rId14" Type="http://schemas.openxmlformats.org/officeDocument/2006/relationships/slide" Target="slide10.xml"/><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 Target="slide3.xm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 Target="slide3.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xm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ESCUELA SECUNDARIA TECNICA No. 16</a:t>
            </a:r>
            <a:br>
              <a:rPr sz="4000"/>
            </a:br>
            <a:r>
              <a:rPr b="0" lang="es-MX" sz="4000" spc="-1" strike="noStrike">
                <a:solidFill>
                  <a:srgbClr val="000000"/>
                </a:solidFill>
                <a:latin typeface="Arial"/>
              </a:rPr>
              <a:t>“TOMAS ALVA EDISON”</a:t>
            </a:r>
            <a:endParaRPr b="0" lang="en-US" sz="4000" spc="-1" strike="noStrike">
              <a:solidFill>
                <a:srgbClr val="000000"/>
              </a:solidFill>
              <a:latin typeface="Arial"/>
            </a:endParaRPr>
          </a:p>
        </p:txBody>
      </p:sp>
      <p:sp>
        <p:nvSpPr>
          <p:cNvPr id="42" name="PlaceHolder 2"/>
          <p:cNvSpPr>
            <a:spLocks noGrp="1"/>
          </p:cNvSpPr>
          <p:nvPr>
            <p:ph/>
          </p:nvPr>
        </p:nvSpPr>
        <p:spPr>
          <a:xfrm>
            <a:off x="395280" y="2349000"/>
            <a:ext cx="8229600" cy="374508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LUMNOS:</a:t>
            </a:r>
            <a:endParaRPr b="0" lang="en-US" sz="2400" spc="-1" strike="noStrike">
              <a:solidFill>
                <a:srgbClr val="000000"/>
              </a:solidFill>
              <a:latin typeface="Arial"/>
            </a:endParaRPr>
          </a:p>
          <a:p>
            <a:pPr lvl="1" marL="743040" indent="-28584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BECA GOMEZ CALDERON</a:t>
            </a:r>
            <a:r>
              <a:rPr b="0" lang="es-MX"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JOSE MARTIN FLORES SANCHEZ </a:t>
            </a:r>
            <a:endParaRPr b="0" lang="en-US" sz="2000" spc="-1" strike="noStrike">
              <a:solidFill>
                <a:srgbClr val="000000"/>
              </a:solidFill>
              <a:latin typeface="Arial"/>
            </a:endParaRPr>
          </a:p>
          <a:p>
            <a:pPr lvl="1" marL="743040" indent="-28584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ANIEL ENRIQUE GOMEZ RODRIGUEZ</a:t>
            </a:r>
            <a:endParaRPr b="0" lang="en-US" sz="2000" spc="-1" strike="noStrike">
              <a:solidFill>
                <a:srgbClr val="000000"/>
              </a:solidFill>
              <a:latin typeface="Arial"/>
            </a:endParaRPr>
          </a:p>
          <a:p>
            <a:pPr lvl="4" marL="205740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FRA. Ma. ESTHER ARREOL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ATERIA: ELECTRONICA 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GRADO Y GRUPO: 2° “B”</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
            <a:hlinkClick r:id="" action="ppaction://hlinkshowjump?jump=nextslide"/>
          </p:cNvPr>
          <p:cNvSpPr/>
          <p:nvPr/>
        </p:nvSpPr>
        <p:spPr>
          <a:xfrm>
            <a:off x="7451640" y="6165720"/>
            <a:ext cx="1297080" cy="405000"/>
          </a:xfrm>
          <a:custGeom>
            <a:avLst/>
            <a:gdLst>
              <a:gd name="textAreaLeft" fmla="*/ 25920 w 1297080"/>
              <a:gd name="textAreaRight" fmla="*/ 1271160 w 1297080"/>
              <a:gd name="textAreaTop" fmla="*/ 25920 h 405000"/>
              <a:gd name="textAreaBottom" fmla="*/ 379080 h 405000"/>
            </a:gdLst>
            <a:ahLst/>
            <a:rect l="textAreaLeft" t="textAreaTop" r="textAreaRight" b="textAreaBottom"/>
            <a:pathLst>
              <a:path w="69135" h="21600">
                <a:moveTo>
                  <a:pt x="0" y="0"/>
                </a:moveTo>
                <a:lnTo>
                  <a:pt x="69135" y="0"/>
                </a:lnTo>
                <a:lnTo>
                  <a:pt x="69135" y="21600"/>
                </a:lnTo>
                <a:lnTo>
                  <a:pt x="0" y="21600"/>
                </a:lnTo>
                <a:close/>
              </a:path>
              <a:path fill="lightenLess" w="69135" h="21600">
                <a:moveTo>
                  <a:pt x="0" y="0"/>
                </a:moveTo>
                <a:lnTo>
                  <a:pt x="69135" y="0"/>
                </a:lnTo>
                <a:lnTo>
                  <a:pt x="67735" y="1400"/>
                </a:lnTo>
                <a:lnTo>
                  <a:pt x="1400" y="1400"/>
                </a:lnTo>
                <a:close/>
              </a:path>
              <a:path fill="darken" w="69135" h="21600">
                <a:moveTo>
                  <a:pt x="69135" y="0"/>
                </a:moveTo>
                <a:lnTo>
                  <a:pt x="69135" y="21600"/>
                </a:lnTo>
                <a:lnTo>
                  <a:pt x="67735" y="20200"/>
                </a:lnTo>
                <a:lnTo>
                  <a:pt x="67735" y="1400"/>
                </a:lnTo>
                <a:close/>
              </a:path>
              <a:path fill="darkenLess" w="69135" h="21600">
                <a:moveTo>
                  <a:pt x="69135" y="21600"/>
                </a:moveTo>
                <a:lnTo>
                  <a:pt x="0" y="21600"/>
                </a:lnTo>
                <a:lnTo>
                  <a:pt x="1400" y="20200"/>
                </a:lnTo>
                <a:lnTo>
                  <a:pt x="67735" y="20200"/>
                </a:lnTo>
                <a:close/>
              </a:path>
              <a:path fill="lighten" w="69135" h="21600">
                <a:moveTo>
                  <a:pt x="0" y="21600"/>
                </a:moveTo>
                <a:lnTo>
                  <a:pt x="0" y="0"/>
                </a:lnTo>
                <a:lnTo>
                  <a:pt x="1400" y="1400"/>
                </a:lnTo>
                <a:lnTo>
                  <a:pt x="1400" y="20200"/>
                </a:lnTo>
                <a:close/>
              </a:path>
              <a:path fill="darken" w="69135" h="21600">
                <a:moveTo>
                  <a:pt x="27561" y="3794"/>
                </a:moveTo>
                <a:lnTo>
                  <a:pt x="41574" y="10800"/>
                </a:lnTo>
                <a:lnTo>
                  <a:pt x="275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8A71F55-010D-48DF-AB1F-B7792CAFF6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50000">
              <a:srgbClr val="663012"/>
            </a:gs>
            <a:gs pos="100000">
              <a:srgbClr val="d6b19c"/>
            </a:gs>
          </a:gsLst>
          <a:lin ang="81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MATERIALES</a:t>
            </a:r>
            <a:endParaRPr b="0" lang="en-US" sz="4400" spc="-1" strike="noStrike">
              <a:solidFill>
                <a:srgbClr val="000000"/>
              </a:solidFill>
              <a:latin typeface="Arial"/>
            </a:endParaRPr>
          </a:p>
        </p:txBody>
      </p:sp>
      <p:sp>
        <p:nvSpPr>
          <p:cNvPr id="83" name="PlaceHolder 2"/>
          <p:cNvSpPr>
            <a:spLocks noGrp="1"/>
          </p:cNvSpPr>
          <p:nvPr>
            <p:ph/>
          </p:nvPr>
        </p:nvSpPr>
        <p:spPr>
          <a:xfrm>
            <a:off x="395280" y="184464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009999"/>
                </a:solidFill>
                <a:uFillTx/>
                <a:latin typeface="Arial"/>
                <a:hlinkClick r:id="rId2" action="ppaction://hlinksldjump"/>
              </a:rPr>
              <a:t>AMPLIFICADOR</a:t>
            </a:r>
            <a:r>
              <a:rPr b="0" lang="es-MX" sz="3200" spc="-1" strike="noStrike">
                <a:solidFill>
                  <a:srgbClr val="6600ff"/>
                </a:solidFill>
                <a:latin typeface="Arial"/>
              </a:rPr>
              <a:t> 15WATS</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009999"/>
                </a:solidFill>
                <a:uFillTx/>
                <a:latin typeface="Arial"/>
                <a:hlinkClick r:id="rId4" action="ppaction://hlinksldjump"/>
              </a:rPr>
              <a:t>BAFLES </a:t>
            </a:r>
            <a:endParaRPr b="0" lang="en-US" sz="3200" spc="-1" strike="noStrike">
              <a:solidFill>
                <a:srgbClr val="000000"/>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6600ff"/>
                </a:solidFill>
                <a:latin typeface="Arial"/>
              </a:rPr>
              <a:t>CABLE </a:t>
            </a:r>
            <a:endParaRPr b="0" lang="en-US" sz="3200" spc="-1" strike="noStrike">
              <a:solidFill>
                <a:srgbClr val="000000"/>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6600ff"/>
                </a:solidFill>
                <a:latin typeface="Arial"/>
              </a:rPr>
              <a:t>BOCINA  </a:t>
            </a:r>
            <a:endParaRPr b="0" lang="en-US" sz="3200" spc="-1" strike="noStrike">
              <a:solidFill>
                <a:srgbClr val="000000"/>
              </a:solidFill>
              <a:latin typeface="Arial"/>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6600ff"/>
                </a:solidFill>
                <a:latin typeface="Arial"/>
              </a:rPr>
              <a:t>DICMAN</a:t>
            </a:r>
            <a:endParaRPr b="0" lang="en-US" sz="3200" spc="-1" strike="noStrike">
              <a:solidFill>
                <a:srgbClr val="000000"/>
              </a:solidFill>
              <a:latin typeface="Arial"/>
            </a:endParaRPr>
          </a:p>
          <a:p>
            <a:pPr marL="343080" indent="-343080">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6600ff"/>
                </a:solidFill>
                <a:latin typeface="Arial"/>
              </a:rPr>
              <a:t>TELA PARA FORRAR EL BAFLE                     </a:t>
            </a:r>
            <a:endParaRPr b="0" lang="en-US" sz="3200" spc="-1" strike="noStrike">
              <a:solidFill>
                <a:srgbClr val="000000"/>
              </a:solidFill>
              <a:latin typeface="Arial"/>
            </a:endParaRPr>
          </a:p>
        </p:txBody>
      </p:sp>
      <p:sp>
        <p:nvSpPr>
          <p:cNvPr id="84" name="">
            <a:hlinkClick r:id="" action="ppaction://hlinkshowjump?jump=previousslide"/>
          </p:cNvPr>
          <p:cNvSpPr/>
          <p:nvPr/>
        </p:nvSpPr>
        <p:spPr>
          <a:xfrm>
            <a:off x="250920" y="6165720"/>
            <a:ext cx="1042920" cy="466920"/>
          </a:xfrm>
          <a:custGeom>
            <a:avLst/>
            <a:gdLst>
              <a:gd name="textAreaLeft" fmla="*/ 30240 w 1042920"/>
              <a:gd name="textAreaRight" fmla="*/ 1012680 w 1042920"/>
              <a:gd name="textAreaTop" fmla="*/ 30240 h 466920"/>
              <a:gd name="textAreaBottom" fmla="*/ 436680 h 466920"/>
            </a:gdLst>
            <a:ahLst/>
            <a:rect l="textAreaLeft" t="textAreaTop" r="textAreaRight" b="textAreaBottom"/>
            <a:pathLst>
              <a:path w="48226" h="21600">
                <a:moveTo>
                  <a:pt x="0" y="0"/>
                </a:moveTo>
                <a:lnTo>
                  <a:pt x="48226" y="0"/>
                </a:lnTo>
                <a:lnTo>
                  <a:pt x="48226" y="21600"/>
                </a:lnTo>
                <a:lnTo>
                  <a:pt x="0" y="21600"/>
                </a:lnTo>
                <a:close/>
              </a:path>
              <a:path fill="lightenLess" w="48226" h="21600">
                <a:moveTo>
                  <a:pt x="0" y="0"/>
                </a:moveTo>
                <a:lnTo>
                  <a:pt x="48226" y="0"/>
                </a:lnTo>
                <a:lnTo>
                  <a:pt x="46826" y="1400"/>
                </a:lnTo>
                <a:lnTo>
                  <a:pt x="1400" y="1400"/>
                </a:lnTo>
                <a:close/>
              </a:path>
              <a:path fill="darken" w="48226" h="21600">
                <a:moveTo>
                  <a:pt x="48226" y="0"/>
                </a:moveTo>
                <a:lnTo>
                  <a:pt x="48226" y="21600"/>
                </a:lnTo>
                <a:lnTo>
                  <a:pt x="46826" y="20200"/>
                </a:lnTo>
                <a:lnTo>
                  <a:pt x="46826" y="1400"/>
                </a:lnTo>
                <a:close/>
              </a:path>
              <a:path fill="darkenLess" w="48226" h="21600">
                <a:moveTo>
                  <a:pt x="48226" y="21600"/>
                </a:moveTo>
                <a:lnTo>
                  <a:pt x="0" y="21600"/>
                </a:lnTo>
                <a:lnTo>
                  <a:pt x="1400" y="20200"/>
                </a:lnTo>
                <a:lnTo>
                  <a:pt x="46826" y="20200"/>
                </a:lnTo>
                <a:close/>
              </a:path>
              <a:path fill="lighten" w="48226" h="21600">
                <a:moveTo>
                  <a:pt x="0" y="21600"/>
                </a:moveTo>
                <a:lnTo>
                  <a:pt x="0" y="0"/>
                </a:lnTo>
                <a:lnTo>
                  <a:pt x="1400" y="1400"/>
                </a:lnTo>
                <a:lnTo>
                  <a:pt x="1400" y="20200"/>
                </a:lnTo>
                <a:close/>
              </a:path>
              <a:path fill="darken" w="48226" h="21600">
                <a:moveTo>
                  <a:pt x="17106" y="10800"/>
                </a:moveTo>
                <a:lnTo>
                  <a:pt x="31119" y="3794"/>
                </a:lnTo>
                <a:lnTo>
                  <a:pt x="3111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a:hlinkClick r:id="" action="ppaction://hlinkshowjump?jump=nextslide"/>
          </p:cNvPr>
          <p:cNvSpPr/>
          <p:nvPr/>
        </p:nvSpPr>
        <p:spPr>
          <a:xfrm>
            <a:off x="7451640" y="6165720"/>
            <a:ext cx="1297080" cy="405000"/>
          </a:xfrm>
          <a:custGeom>
            <a:avLst/>
            <a:gdLst>
              <a:gd name="textAreaLeft" fmla="*/ 25920 w 1297080"/>
              <a:gd name="textAreaRight" fmla="*/ 1271160 w 1297080"/>
              <a:gd name="textAreaTop" fmla="*/ 25920 h 405000"/>
              <a:gd name="textAreaBottom" fmla="*/ 379080 h 405000"/>
            </a:gdLst>
            <a:ahLst/>
            <a:rect l="textAreaLeft" t="textAreaTop" r="textAreaRight" b="textAreaBottom"/>
            <a:pathLst>
              <a:path w="69135" h="21600">
                <a:moveTo>
                  <a:pt x="0" y="0"/>
                </a:moveTo>
                <a:lnTo>
                  <a:pt x="69135" y="0"/>
                </a:lnTo>
                <a:lnTo>
                  <a:pt x="69135" y="21600"/>
                </a:lnTo>
                <a:lnTo>
                  <a:pt x="0" y="21600"/>
                </a:lnTo>
                <a:close/>
              </a:path>
              <a:path fill="lightenLess" w="69135" h="21600">
                <a:moveTo>
                  <a:pt x="0" y="0"/>
                </a:moveTo>
                <a:lnTo>
                  <a:pt x="69135" y="0"/>
                </a:lnTo>
                <a:lnTo>
                  <a:pt x="67735" y="1400"/>
                </a:lnTo>
                <a:lnTo>
                  <a:pt x="1400" y="1400"/>
                </a:lnTo>
                <a:close/>
              </a:path>
              <a:path fill="darken" w="69135" h="21600">
                <a:moveTo>
                  <a:pt x="69135" y="0"/>
                </a:moveTo>
                <a:lnTo>
                  <a:pt x="69135" y="21600"/>
                </a:lnTo>
                <a:lnTo>
                  <a:pt x="67735" y="20200"/>
                </a:lnTo>
                <a:lnTo>
                  <a:pt x="67735" y="1400"/>
                </a:lnTo>
                <a:close/>
              </a:path>
              <a:path fill="darkenLess" w="69135" h="21600">
                <a:moveTo>
                  <a:pt x="69135" y="21600"/>
                </a:moveTo>
                <a:lnTo>
                  <a:pt x="0" y="21600"/>
                </a:lnTo>
                <a:lnTo>
                  <a:pt x="1400" y="20200"/>
                </a:lnTo>
                <a:lnTo>
                  <a:pt x="67735" y="20200"/>
                </a:lnTo>
                <a:close/>
              </a:path>
              <a:path fill="lighten" w="69135" h="21600">
                <a:moveTo>
                  <a:pt x="0" y="21600"/>
                </a:moveTo>
                <a:lnTo>
                  <a:pt x="0" y="0"/>
                </a:lnTo>
                <a:lnTo>
                  <a:pt x="1400" y="1400"/>
                </a:lnTo>
                <a:lnTo>
                  <a:pt x="1400" y="20200"/>
                </a:lnTo>
                <a:close/>
              </a:path>
              <a:path fill="darken" w="69135" h="21600">
                <a:moveTo>
                  <a:pt x="27561" y="3794"/>
                </a:moveTo>
                <a:lnTo>
                  <a:pt x="41574" y="10800"/>
                </a:lnTo>
                <a:lnTo>
                  <a:pt x="275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a:hlinkClick r:id="rId9" action="ppaction://hlinksldjump"/>
          </p:cNvPr>
          <p:cNvSpPr/>
          <p:nvPr/>
        </p:nvSpPr>
        <p:spPr>
          <a:xfrm>
            <a:off x="3780000" y="6165720"/>
            <a:ext cx="1439640" cy="393840"/>
          </a:xfrm>
          <a:custGeom>
            <a:avLst/>
            <a:gdLst>
              <a:gd name="textAreaLeft" fmla="*/ 25200 w 1439640"/>
              <a:gd name="textAreaRight" fmla="*/ 1414440 w 1439640"/>
              <a:gd name="textAreaTop" fmla="*/ 25200 h 393840"/>
              <a:gd name="textAreaBottom" fmla="*/ 368640 h 393840"/>
            </a:gdLst>
            <a:ahLst/>
            <a:rect l="textAreaLeft" t="textAreaTop" r="textAreaRight" b="textAreaBottom"/>
            <a:pathLst>
              <a:path w="78904" h="21600">
                <a:moveTo>
                  <a:pt x="0" y="0"/>
                </a:moveTo>
                <a:lnTo>
                  <a:pt x="78904" y="0"/>
                </a:lnTo>
                <a:lnTo>
                  <a:pt x="78904" y="21600"/>
                </a:lnTo>
                <a:lnTo>
                  <a:pt x="0" y="21600"/>
                </a:lnTo>
                <a:close/>
              </a:path>
              <a:path fill="lightenLess" w="78904" h="21600">
                <a:moveTo>
                  <a:pt x="0" y="0"/>
                </a:moveTo>
                <a:lnTo>
                  <a:pt x="78904" y="0"/>
                </a:lnTo>
                <a:lnTo>
                  <a:pt x="77504" y="1400"/>
                </a:lnTo>
                <a:lnTo>
                  <a:pt x="1400" y="1400"/>
                </a:lnTo>
                <a:close/>
              </a:path>
              <a:path fill="darken" w="78904" h="21600">
                <a:moveTo>
                  <a:pt x="78904" y="0"/>
                </a:moveTo>
                <a:lnTo>
                  <a:pt x="78904" y="21600"/>
                </a:lnTo>
                <a:lnTo>
                  <a:pt x="77504" y="20200"/>
                </a:lnTo>
                <a:lnTo>
                  <a:pt x="77504" y="1400"/>
                </a:lnTo>
                <a:close/>
              </a:path>
              <a:path fill="darkenLess" w="78904" h="21600">
                <a:moveTo>
                  <a:pt x="78904" y="21600"/>
                </a:moveTo>
                <a:lnTo>
                  <a:pt x="0" y="21600"/>
                </a:lnTo>
                <a:lnTo>
                  <a:pt x="1400" y="20200"/>
                </a:lnTo>
                <a:lnTo>
                  <a:pt x="77504" y="20200"/>
                </a:lnTo>
                <a:close/>
              </a:path>
              <a:path fill="lighten" w="78904" h="21600">
                <a:moveTo>
                  <a:pt x="0" y="21600"/>
                </a:moveTo>
                <a:lnTo>
                  <a:pt x="0" y="0"/>
                </a:lnTo>
                <a:lnTo>
                  <a:pt x="1400" y="1400"/>
                </a:lnTo>
                <a:lnTo>
                  <a:pt x="1400" y="20200"/>
                </a:lnTo>
                <a:close/>
              </a:path>
              <a:path fill="darken" w="78904" h="21600">
                <a:moveTo>
                  <a:pt x="32446" y="7493"/>
                </a:moveTo>
                <a:lnTo>
                  <a:pt x="35953" y="7493"/>
                </a:lnTo>
                <a:lnTo>
                  <a:pt x="35953" y="12828"/>
                </a:lnTo>
                <a:cubicBezTo>
                  <a:pt x="35953" y="13751"/>
                  <a:pt x="36754" y="14482"/>
                  <a:pt x="37790" y="14482"/>
                </a:cubicBezTo>
                <a:lnTo>
                  <a:pt x="39452" y="14482"/>
                </a:lnTo>
                <a:cubicBezTo>
                  <a:pt x="40488" y="14482"/>
                  <a:pt x="41289" y="13751"/>
                  <a:pt x="41289" y="12828"/>
                </a:cubicBezTo>
                <a:lnTo>
                  <a:pt x="41289" y="7493"/>
                </a:lnTo>
                <a:lnTo>
                  <a:pt x="39452" y="7493"/>
                </a:lnTo>
                <a:lnTo>
                  <a:pt x="42960" y="3985"/>
                </a:lnTo>
                <a:lnTo>
                  <a:pt x="46633" y="7493"/>
                </a:lnTo>
                <a:lnTo>
                  <a:pt x="44796" y="7493"/>
                </a:lnTo>
                <a:lnTo>
                  <a:pt x="44796" y="12828"/>
                </a:lnTo>
                <a:cubicBezTo>
                  <a:pt x="44796" y="15596"/>
                  <a:pt x="42220" y="18155"/>
                  <a:pt x="39452" y="18155"/>
                </a:cubicBezTo>
                <a:lnTo>
                  <a:pt x="37790" y="18155"/>
                </a:lnTo>
                <a:cubicBezTo>
                  <a:pt x="35022" y="18155"/>
                  <a:pt x="32446" y="15596"/>
                  <a:pt x="32446"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588AB9D-9624-4552-8ED2-0261A89A51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50000">
              <a:srgbClr val="e6dcac"/>
            </a:gs>
            <a:gs pos="100000">
              <a:srgbClr val="e6dcac"/>
            </a:gs>
          </a:gsLst>
          <a:lin ang="135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Arial"/>
              </a:rPr>
              <a:t>HERRAMIENTA</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INZAS DE CORTE                     </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INZAS PELA CABLE        </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INZAS DE ELECTRCISTA</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ISTOLA DE SILICON</a:t>
            </a:r>
            <a:endParaRPr b="0" lang="en-US" sz="3200" spc="-1" strike="noStrike">
              <a:solidFill>
                <a:srgbClr val="000000"/>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DESARMAD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
            <a:hlinkClick r:id="" action="ppaction://hlinkshowjump?jump=previousslide"/>
          </p:cNvPr>
          <p:cNvSpPr/>
          <p:nvPr/>
        </p:nvSpPr>
        <p:spPr>
          <a:xfrm>
            <a:off x="250920" y="6165720"/>
            <a:ext cx="1042920" cy="466920"/>
          </a:xfrm>
          <a:custGeom>
            <a:avLst/>
            <a:gdLst>
              <a:gd name="textAreaLeft" fmla="*/ 30240 w 1042920"/>
              <a:gd name="textAreaRight" fmla="*/ 1012680 w 1042920"/>
              <a:gd name="textAreaTop" fmla="*/ 30240 h 466920"/>
              <a:gd name="textAreaBottom" fmla="*/ 436680 h 466920"/>
            </a:gdLst>
            <a:ahLst/>
            <a:rect l="textAreaLeft" t="textAreaTop" r="textAreaRight" b="textAreaBottom"/>
            <a:pathLst>
              <a:path w="48226" h="21600">
                <a:moveTo>
                  <a:pt x="0" y="0"/>
                </a:moveTo>
                <a:lnTo>
                  <a:pt x="48226" y="0"/>
                </a:lnTo>
                <a:lnTo>
                  <a:pt x="48226" y="21600"/>
                </a:lnTo>
                <a:lnTo>
                  <a:pt x="0" y="21600"/>
                </a:lnTo>
                <a:close/>
              </a:path>
              <a:path fill="lightenLess" w="48226" h="21600">
                <a:moveTo>
                  <a:pt x="0" y="0"/>
                </a:moveTo>
                <a:lnTo>
                  <a:pt x="48226" y="0"/>
                </a:lnTo>
                <a:lnTo>
                  <a:pt x="46826" y="1400"/>
                </a:lnTo>
                <a:lnTo>
                  <a:pt x="1400" y="1400"/>
                </a:lnTo>
                <a:close/>
              </a:path>
              <a:path fill="darken" w="48226" h="21600">
                <a:moveTo>
                  <a:pt x="48226" y="0"/>
                </a:moveTo>
                <a:lnTo>
                  <a:pt x="48226" y="21600"/>
                </a:lnTo>
                <a:lnTo>
                  <a:pt x="46826" y="20200"/>
                </a:lnTo>
                <a:lnTo>
                  <a:pt x="46826" y="1400"/>
                </a:lnTo>
                <a:close/>
              </a:path>
              <a:path fill="darkenLess" w="48226" h="21600">
                <a:moveTo>
                  <a:pt x="48226" y="21600"/>
                </a:moveTo>
                <a:lnTo>
                  <a:pt x="0" y="21600"/>
                </a:lnTo>
                <a:lnTo>
                  <a:pt x="1400" y="20200"/>
                </a:lnTo>
                <a:lnTo>
                  <a:pt x="46826" y="20200"/>
                </a:lnTo>
                <a:close/>
              </a:path>
              <a:path fill="lighten" w="48226" h="21600">
                <a:moveTo>
                  <a:pt x="0" y="21600"/>
                </a:moveTo>
                <a:lnTo>
                  <a:pt x="0" y="0"/>
                </a:lnTo>
                <a:lnTo>
                  <a:pt x="1400" y="1400"/>
                </a:lnTo>
                <a:lnTo>
                  <a:pt x="1400" y="20200"/>
                </a:lnTo>
                <a:close/>
              </a:path>
              <a:path fill="darken" w="48226" h="21600">
                <a:moveTo>
                  <a:pt x="17106" y="10800"/>
                </a:moveTo>
                <a:lnTo>
                  <a:pt x="31119" y="3794"/>
                </a:lnTo>
                <a:lnTo>
                  <a:pt x="3111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a:hlinkClick r:id="rId6" action="ppaction://hlinksldjump"/>
          </p:cNvPr>
          <p:cNvSpPr/>
          <p:nvPr/>
        </p:nvSpPr>
        <p:spPr>
          <a:xfrm>
            <a:off x="7451640" y="6165720"/>
            <a:ext cx="1297080" cy="405000"/>
          </a:xfrm>
          <a:custGeom>
            <a:avLst/>
            <a:gdLst>
              <a:gd name="textAreaLeft" fmla="*/ 25920 w 1297080"/>
              <a:gd name="textAreaRight" fmla="*/ 1271160 w 1297080"/>
              <a:gd name="textAreaTop" fmla="*/ 25920 h 405000"/>
              <a:gd name="textAreaBottom" fmla="*/ 379080 h 405000"/>
            </a:gdLst>
            <a:ahLst/>
            <a:rect l="textAreaLeft" t="textAreaTop" r="textAreaRight" b="textAreaBottom"/>
            <a:pathLst>
              <a:path w="69135" h="21600">
                <a:moveTo>
                  <a:pt x="0" y="0"/>
                </a:moveTo>
                <a:lnTo>
                  <a:pt x="69135" y="0"/>
                </a:lnTo>
                <a:lnTo>
                  <a:pt x="69135" y="21600"/>
                </a:lnTo>
                <a:lnTo>
                  <a:pt x="0" y="21600"/>
                </a:lnTo>
                <a:close/>
              </a:path>
              <a:path fill="lightenLess" w="69135" h="21600">
                <a:moveTo>
                  <a:pt x="0" y="0"/>
                </a:moveTo>
                <a:lnTo>
                  <a:pt x="69135" y="0"/>
                </a:lnTo>
                <a:lnTo>
                  <a:pt x="67735" y="1400"/>
                </a:lnTo>
                <a:lnTo>
                  <a:pt x="1400" y="1400"/>
                </a:lnTo>
                <a:close/>
              </a:path>
              <a:path fill="darken" w="69135" h="21600">
                <a:moveTo>
                  <a:pt x="69135" y="0"/>
                </a:moveTo>
                <a:lnTo>
                  <a:pt x="69135" y="21600"/>
                </a:lnTo>
                <a:lnTo>
                  <a:pt x="67735" y="20200"/>
                </a:lnTo>
                <a:lnTo>
                  <a:pt x="67735" y="1400"/>
                </a:lnTo>
                <a:close/>
              </a:path>
              <a:path fill="darkenLess" w="69135" h="21600">
                <a:moveTo>
                  <a:pt x="69135" y="21600"/>
                </a:moveTo>
                <a:lnTo>
                  <a:pt x="0" y="21600"/>
                </a:lnTo>
                <a:lnTo>
                  <a:pt x="1400" y="20200"/>
                </a:lnTo>
                <a:lnTo>
                  <a:pt x="67735" y="20200"/>
                </a:lnTo>
                <a:close/>
              </a:path>
              <a:path fill="lighten" w="69135" h="21600">
                <a:moveTo>
                  <a:pt x="0" y="21600"/>
                </a:moveTo>
                <a:lnTo>
                  <a:pt x="0" y="0"/>
                </a:lnTo>
                <a:lnTo>
                  <a:pt x="1400" y="1400"/>
                </a:lnTo>
                <a:lnTo>
                  <a:pt x="1400" y="20200"/>
                </a:lnTo>
                <a:close/>
              </a:path>
              <a:path fill="darken" w="69135" h="21600">
                <a:moveTo>
                  <a:pt x="27561" y="3794"/>
                </a:moveTo>
                <a:lnTo>
                  <a:pt x="41574" y="10800"/>
                </a:lnTo>
                <a:lnTo>
                  <a:pt x="275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a:hlinkClick r:id="rId7" action="ppaction://hlinksldjump"/>
          </p:cNvPr>
          <p:cNvSpPr/>
          <p:nvPr/>
        </p:nvSpPr>
        <p:spPr>
          <a:xfrm>
            <a:off x="3780000" y="6165720"/>
            <a:ext cx="1439640" cy="393840"/>
          </a:xfrm>
          <a:custGeom>
            <a:avLst/>
            <a:gdLst>
              <a:gd name="textAreaLeft" fmla="*/ 25200 w 1439640"/>
              <a:gd name="textAreaRight" fmla="*/ 1414440 w 1439640"/>
              <a:gd name="textAreaTop" fmla="*/ 25200 h 393840"/>
              <a:gd name="textAreaBottom" fmla="*/ 368640 h 393840"/>
            </a:gdLst>
            <a:ahLst/>
            <a:rect l="textAreaLeft" t="textAreaTop" r="textAreaRight" b="textAreaBottom"/>
            <a:pathLst>
              <a:path w="78904" h="21600">
                <a:moveTo>
                  <a:pt x="0" y="0"/>
                </a:moveTo>
                <a:lnTo>
                  <a:pt x="78904" y="0"/>
                </a:lnTo>
                <a:lnTo>
                  <a:pt x="78904" y="21600"/>
                </a:lnTo>
                <a:lnTo>
                  <a:pt x="0" y="21600"/>
                </a:lnTo>
                <a:close/>
              </a:path>
              <a:path fill="lightenLess" w="78904" h="21600">
                <a:moveTo>
                  <a:pt x="0" y="0"/>
                </a:moveTo>
                <a:lnTo>
                  <a:pt x="78904" y="0"/>
                </a:lnTo>
                <a:lnTo>
                  <a:pt x="77504" y="1400"/>
                </a:lnTo>
                <a:lnTo>
                  <a:pt x="1400" y="1400"/>
                </a:lnTo>
                <a:close/>
              </a:path>
              <a:path fill="darken" w="78904" h="21600">
                <a:moveTo>
                  <a:pt x="78904" y="0"/>
                </a:moveTo>
                <a:lnTo>
                  <a:pt x="78904" y="21600"/>
                </a:lnTo>
                <a:lnTo>
                  <a:pt x="77504" y="20200"/>
                </a:lnTo>
                <a:lnTo>
                  <a:pt x="77504" y="1400"/>
                </a:lnTo>
                <a:close/>
              </a:path>
              <a:path fill="darkenLess" w="78904" h="21600">
                <a:moveTo>
                  <a:pt x="78904" y="21600"/>
                </a:moveTo>
                <a:lnTo>
                  <a:pt x="0" y="21600"/>
                </a:lnTo>
                <a:lnTo>
                  <a:pt x="1400" y="20200"/>
                </a:lnTo>
                <a:lnTo>
                  <a:pt x="77504" y="20200"/>
                </a:lnTo>
                <a:close/>
              </a:path>
              <a:path fill="lighten" w="78904" h="21600">
                <a:moveTo>
                  <a:pt x="0" y="21600"/>
                </a:moveTo>
                <a:lnTo>
                  <a:pt x="0" y="0"/>
                </a:lnTo>
                <a:lnTo>
                  <a:pt x="1400" y="1400"/>
                </a:lnTo>
                <a:lnTo>
                  <a:pt x="1400" y="20200"/>
                </a:lnTo>
                <a:close/>
              </a:path>
              <a:path fill="darken" w="78904" h="21600">
                <a:moveTo>
                  <a:pt x="32446" y="7493"/>
                </a:moveTo>
                <a:lnTo>
                  <a:pt x="35953" y="7493"/>
                </a:lnTo>
                <a:lnTo>
                  <a:pt x="35953" y="12828"/>
                </a:lnTo>
                <a:cubicBezTo>
                  <a:pt x="35953" y="13751"/>
                  <a:pt x="36754" y="14482"/>
                  <a:pt x="37790" y="14482"/>
                </a:cubicBezTo>
                <a:lnTo>
                  <a:pt x="39452" y="14482"/>
                </a:lnTo>
                <a:cubicBezTo>
                  <a:pt x="40488" y="14482"/>
                  <a:pt x="41289" y="13751"/>
                  <a:pt x="41289" y="12828"/>
                </a:cubicBezTo>
                <a:lnTo>
                  <a:pt x="41289" y="7493"/>
                </a:lnTo>
                <a:lnTo>
                  <a:pt x="39452" y="7493"/>
                </a:lnTo>
                <a:lnTo>
                  <a:pt x="42960" y="3985"/>
                </a:lnTo>
                <a:lnTo>
                  <a:pt x="46633" y="7493"/>
                </a:lnTo>
                <a:lnTo>
                  <a:pt x="44796" y="7493"/>
                </a:lnTo>
                <a:lnTo>
                  <a:pt x="44796" y="12828"/>
                </a:lnTo>
                <a:cubicBezTo>
                  <a:pt x="44796" y="15596"/>
                  <a:pt x="42220" y="18155"/>
                  <a:pt x="39452" y="18155"/>
                </a:cubicBezTo>
                <a:lnTo>
                  <a:pt x="37790" y="18155"/>
                </a:lnTo>
                <a:cubicBezTo>
                  <a:pt x="35022" y="18155"/>
                  <a:pt x="32446" y="15596"/>
                  <a:pt x="32446"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9FD6558-ACED-46AD-B921-13A65C3AD6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100000">
              <a:srgbClr val="fc9fcb"/>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AMRLIFICADOR</a:t>
            </a:r>
            <a:endParaRPr b="0" lang="en-US" sz="4400" spc="-1" strike="noStrike">
              <a:solidFill>
                <a:srgbClr val="000000"/>
              </a:solidFill>
              <a:latin typeface="Arial"/>
            </a:endParaRPr>
          </a:p>
        </p:txBody>
      </p:sp>
      <p:sp>
        <p:nvSpPr>
          <p:cNvPr id="93" name="PlaceHolder 2"/>
          <p:cNvSpPr>
            <a:spLocks noGrp="1"/>
          </p:cNvSpPr>
          <p:nvPr>
            <p:ph/>
          </p:nvPr>
        </p:nvSpPr>
        <p:spPr>
          <a:xfrm>
            <a:off x="395280" y="1412640"/>
            <a:ext cx="8229600" cy="5445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amplificador eleva la potencia de los impulsos eléctricos enviados por el cartucho hasta alcanzar un nivel suficiente para activar los altavoces. La potencia que puede producir un amplificador se mide en vatios (W). Según el sistema de altavoces, el amplificador puede enviar de 10 a 125 W de potencia o má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amplificador está controlado por un dispositivo denominado preamplificador, que amplifica el voltaje de las señales sonoras que resultan demasiado débiles como para que el amplificador pueda manejarla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
            <a:hlinkClick r:id="rId1" action="ppaction://hlinksldjump"/>
          </p:cNvPr>
          <p:cNvSpPr/>
          <p:nvPr/>
        </p:nvSpPr>
        <p:spPr>
          <a:xfrm>
            <a:off x="6877080" y="6237360"/>
            <a:ext cx="1979640" cy="360360"/>
          </a:xfrm>
          <a:custGeom>
            <a:avLst/>
            <a:gdLst>
              <a:gd name="textAreaLeft" fmla="*/ 23040 w 1979640"/>
              <a:gd name="textAreaRight" fmla="*/ 1956600 w 1979640"/>
              <a:gd name="textAreaTop" fmla="*/ 23040 h 360360"/>
              <a:gd name="textAreaBottom" fmla="*/ 337320 h 360360"/>
            </a:gdLst>
            <a:ahLst/>
            <a:rect l="textAreaLeft" t="textAreaTop" r="textAreaRight" b="textAreaBottom"/>
            <a:pathLst>
              <a:path w="118563" h="21600">
                <a:moveTo>
                  <a:pt x="0" y="0"/>
                </a:moveTo>
                <a:lnTo>
                  <a:pt x="118563" y="0"/>
                </a:lnTo>
                <a:lnTo>
                  <a:pt x="118563" y="21600"/>
                </a:lnTo>
                <a:lnTo>
                  <a:pt x="0" y="21600"/>
                </a:lnTo>
                <a:close/>
              </a:path>
              <a:path fill="lightenLess" w="118563" h="21600">
                <a:moveTo>
                  <a:pt x="0" y="0"/>
                </a:moveTo>
                <a:lnTo>
                  <a:pt x="118563" y="0"/>
                </a:lnTo>
                <a:lnTo>
                  <a:pt x="117163" y="1400"/>
                </a:lnTo>
                <a:lnTo>
                  <a:pt x="1400" y="1400"/>
                </a:lnTo>
                <a:close/>
              </a:path>
              <a:path fill="darken" w="118563" h="21600">
                <a:moveTo>
                  <a:pt x="118563" y="0"/>
                </a:moveTo>
                <a:lnTo>
                  <a:pt x="118563" y="21600"/>
                </a:lnTo>
                <a:lnTo>
                  <a:pt x="117163" y="20200"/>
                </a:lnTo>
                <a:lnTo>
                  <a:pt x="117163" y="1400"/>
                </a:lnTo>
                <a:close/>
              </a:path>
              <a:path fill="darkenLess" w="118563" h="21600">
                <a:moveTo>
                  <a:pt x="118563" y="21600"/>
                </a:moveTo>
                <a:lnTo>
                  <a:pt x="0" y="21600"/>
                </a:lnTo>
                <a:lnTo>
                  <a:pt x="1400" y="20200"/>
                </a:lnTo>
                <a:lnTo>
                  <a:pt x="117163" y="20200"/>
                </a:lnTo>
                <a:close/>
              </a:path>
              <a:path fill="lighten" w="118563" h="21600">
                <a:moveTo>
                  <a:pt x="0" y="21600"/>
                </a:moveTo>
                <a:lnTo>
                  <a:pt x="0" y="0"/>
                </a:lnTo>
                <a:lnTo>
                  <a:pt x="1400" y="1400"/>
                </a:lnTo>
                <a:lnTo>
                  <a:pt x="1400" y="20200"/>
                </a:lnTo>
                <a:close/>
              </a:path>
              <a:path fill="darken" w="118563" h="21600">
                <a:moveTo>
                  <a:pt x="55783" y="10800"/>
                </a:moveTo>
                <a:lnTo>
                  <a:pt x="66288" y="3794"/>
                </a:lnTo>
                <a:lnTo>
                  <a:pt x="66288" y="17806"/>
                </a:lnTo>
                <a:close/>
              </a:path>
              <a:path fill="darken" w="118563" h="21600">
                <a:moveTo>
                  <a:pt x="52275" y="3794"/>
                </a:moveTo>
                <a:lnTo>
                  <a:pt x="53937" y="3794"/>
                </a:lnTo>
                <a:lnTo>
                  <a:pt x="53937" y="17806"/>
                </a:lnTo>
                <a:lnTo>
                  <a:pt x="5227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B6DB884-11AC-4441-AC30-3A284FB94A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0560" y="-360"/>
            <a:ext cx="837396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BAFLES</a:t>
            </a:r>
            <a:endParaRPr b="0" lang="en-US" sz="4000" spc="-1" strike="noStrike">
              <a:solidFill>
                <a:srgbClr val="000000"/>
              </a:solidFill>
              <a:latin typeface="Arial"/>
            </a:endParaRPr>
          </a:p>
        </p:txBody>
      </p:sp>
      <p:sp>
        <p:nvSpPr>
          <p:cNvPr id="96" name="PlaceHolder 2"/>
          <p:cNvSpPr>
            <a:spLocks noGrp="1"/>
          </p:cNvSpPr>
          <p:nvPr>
            <p:ph/>
          </p:nvPr>
        </p:nvSpPr>
        <p:spPr>
          <a:xfrm>
            <a:off x="323640" y="1197000"/>
            <a:ext cx="8218440" cy="5371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S UN </a:t>
            </a:r>
            <a:r>
              <a:rPr b="0" lang="es-MX" sz="3200" spc="-1" strike="noStrike" u="sng">
                <a:solidFill>
                  <a:srgbClr val="009999"/>
                </a:solidFill>
                <a:uFillTx/>
                <a:latin typeface="Arial"/>
                <a:hlinkClick r:id="rId2" action="ppaction://hlinksldjump"/>
              </a:rPr>
              <a:t>RECINTO ACUTICO </a:t>
            </a:r>
            <a:r>
              <a:rPr b="0" lang="es-MX" sz="3200" spc="-1" strike="noStrike">
                <a:solidFill>
                  <a:srgbClr val="000000"/>
                </a:solidFill>
                <a:latin typeface="Arial"/>
              </a:rPr>
              <a:t>QUE HACE ECO PARA QUE EL SONIDO NO SE DISTORCIONE.</a:t>
            </a:r>
            <a:endParaRPr b="0" lang="en-US" sz="3200" spc="-1" strike="noStrike">
              <a:solidFill>
                <a:srgbClr val="000000"/>
              </a:solidFill>
              <a:latin typeface="Arial"/>
            </a:endParaRPr>
          </a:p>
        </p:txBody>
      </p:sp>
      <p:sp>
        <p:nvSpPr>
          <p:cNvPr id="97" name="">
            <a:hlinkClick r:id="rId3" action="ppaction://hlinksldjump"/>
          </p:cNvPr>
          <p:cNvSpPr/>
          <p:nvPr/>
        </p:nvSpPr>
        <p:spPr>
          <a:xfrm>
            <a:off x="6877080" y="6237360"/>
            <a:ext cx="1979640" cy="360360"/>
          </a:xfrm>
          <a:custGeom>
            <a:avLst/>
            <a:gdLst>
              <a:gd name="textAreaLeft" fmla="*/ 23040 w 1979640"/>
              <a:gd name="textAreaRight" fmla="*/ 1956600 w 1979640"/>
              <a:gd name="textAreaTop" fmla="*/ 23040 h 360360"/>
              <a:gd name="textAreaBottom" fmla="*/ 337320 h 360360"/>
            </a:gdLst>
            <a:ahLst/>
            <a:rect l="textAreaLeft" t="textAreaTop" r="textAreaRight" b="textAreaBottom"/>
            <a:pathLst>
              <a:path w="118563" h="21600">
                <a:moveTo>
                  <a:pt x="0" y="0"/>
                </a:moveTo>
                <a:lnTo>
                  <a:pt x="118563" y="0"/>
                </a:lnTo>
                <a:lnTo>
                  <a:pt x="118563" y="21600"/>
                </a:lnTo>
                <a:lnTo>
                  <a:pt x="0" y="21600"/>
                </a:lnTo>
                <a:close/>
              </a:path>
              <a:path fill="lightenLess" w="118563" h="21600">
                <a:moveTo>
                  <a:pt x="0" y="0"/>
                </a:moveTo>
                <a:lnTo>
                  <a:pt x="118563" y="0"/>
                </a:lnTo>
                <a:lnTo>
                  <a:pt x="117163" y="1400"/>
                </a:lnTo>
                <a:lnTo>
                  <a:pt x="1400" y="1400"/>
                </a:lnTo>
                <a:close/>
              </a:path>
              <a:path fill="darken" w="118563" h="21600">
                <a:moveTo>
                  <a:pt x="118563" y="0"/>
                </a:moveTo>
                <a:lnTo>
                  <a:pt x="118563" y="21600"/>
                </a:lnTo>
                <a:lnTo>
                  <a:pt x="117163" y="20200"/>
                </a:lnTo>
                <a:lnTo>
                  <a:pt x="117163" y="1400"/>
                </a:lnTo>
                <a:close/>
              </a:path>
              <a:path fill="darkenLess" w="118563" h="21600">
                <a:moveTo>
                  <a:pt x="118563" y="21600"/>
                </a:moveTo>
                <a:lnTo>
                  <a:pt x="0" y="21600"/>
                </a:lnTo>
                <a:lnTo>
                  <a:pt x="1400" y="20200"/>
                </a:lnTo>
                <a:lnTo>
                  <a:pt x="117163" y="20200"/>
                </a:lnTo>
                <a:close/>
              </a:path>
              <a:path fill="lighten" w="118563" h="21600">
                <a:moveTo>
                  <a:pt x="0" y="21600"/>
                </a:moveTo>
                <a:lnTo>
                  <a:pt x="0" y="0"/>
                </a:lnTo>
                <a:lnTo>
                  <a:pt x="1400" y="1400"/>
                </a:lnTo>
                <a:lnTo>
                  <a:pt x="1400" y="20200"/>
                </a:lnTo>
                <a:close/>
              </a:path>
              <a:path fill="darken" w="118563" h="21600">
                <a:moveTo>
                  <a:pt x="55783" y="10800"/>
                </a:moveTo>
                <a:lnTo>
                  <a:pt x="66288" y="3794"/>
                </a:lnTo>
                <a:lnTo>
                  <a:pt x="66288" y="17806"/>
                </a:lnTo>
                <a:close/>
              </a:path>
              <a:path fill="darken" w="118563" h="21600">
                <a:moveTo>
                  <a:pt x="52275" y="3794"/>
                </a:moveTo>
                <a:lnTo>
                  <a:pt x="53937" y="3794"/>
                </a:lnTo>
                <a:lnTo>
                  <a:pt x="53937" y="17806"/>
                </a:lnTo>
                <a:lnTo>
                  <a:pt x="5227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436B98D-7C64-472B-9FFF-29D74E26C6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f7f7f"/>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333000"/>
            <a:ext cx="8229600" cy="115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RECINTO ACUSTICO</a:t>
            </a:r>
            <a:endParaRPr b="0" lang="en-US" sz="4000" spc="-1" strike="noStrike">
              <a:solidFill>
                <a:srgbClr val="000000"/>
              </a:solidFill>
              <a:latin typeface="Arial"/>
            </a:endParaRPr>
          </a:p>
        </p:txBody>
      </p:sp>
      <p:sp>
        <p:nvSpPr>
          <p:cNvPr id="99" name="PlaceHolder 2"/>
          <p:cNvSpPr>
            <a:spLocks noGrp="1"/>
          </p:cNvSpPr>
          <p:nvPr>
            <p:ph/>
          </p:nvPr>
        </p:nvSpPr>
        <p:spPr>
          <a:xfrm>
            <a:off x="395280" y="1844640"/>
            <a:ext cx="8291520" cy="4680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estudio de la acústica de recintos cerrados es ahora una cuestión compleja y altamente matemática. Sin embargo, el requisito esencial es simple: la elección del tiempo de reverberación debe ser calculada en función de las necesidades y uso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sonido se desplaza de forma muy distinta en interiores y al aire libre. En un gimnasio, por ejemplo, los bancos, las paredes y el techo hacen que las ondas sonoras reboten. Al aire libre, el sonido parece menos intenso porque hay menos obstáculos que reflejen las onda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
            <a:hlinkClick r:id="rId1" action="ppaction://hlinksldjump"/>
          </p:cNvPr>
          <p:cNvSpPr/>
          <p:nvPr/>
        </p:nvSpPr>
        <p:spPr>
          <a:xfrm>
            <a:off x="6156360" y="6165720"/>
            <a:ext cx="2771640" cy="432000"/>
          </a:xfrm>
          <a:custGeom>
            <a:avLst/>
            <a:gdLst>
              <a:gd name="textAreaLeft" fmla="*/ 27720 w 2771640"/>
              <a:gd name="textAreaRight" fmla="*/ 2743920 w 2771640"/>
              <a:gd name="textAreaTop" fmla="*/ 27720 h 432000"/>
              <a:gd name="textAreaBottom" fmla="*/ 404280 h 432000"/>
            </a:gdLst>
            <a:ahLst/>
            <a:rect l="textAreaLeft" t="textAreaTop" r="textAreaRight" b="textAreaBottom"/>
            <a:pathLst>
              <a:path w="138485" h="21600">
                <a:moveTo>
                  <a:pt x="0" y="0"/>
                </a:moveTo>
                <a:lnTo>
                  <a:pt x="138485" y="0"/>
                </a:lnTo>
                <a:lnTo>
                  <a:pt x="138485" y="21600"/>
                </a:lnTo>
                <a:lnTo>
                  <a:pt x="0" y="21600"/>
                </a:lnTo>
                <a:close/>
              </a:path>
              <a:path fill="lightenLess" w="138485" h="21600">
                <a:moveTo>
                  <a:pt x="0" y="0"/>
                </a:moveTo>
                <a:lnTo>
                  <a:pt x="138485" y="0"/>
                </a:lnTo>
                <a:lnTo>
                  <a:pt x="137085" y="1400"/>
                </a:lnTo>
                <a:lnTo>
                  <a:pt x="1400" y="1400"/>
                </a:lnTo>
                <a:close/>
              </a:path>
              <a:path fill="darken" w="138485" h="21600">
                <a:moveTo>
                  <a:pt x="138485" y="0"/>
                </a:moveTo>
                <a:lnTo>
                  <a:pt x="138485" y="21600"/>
                </a:lnTo>
                <a:lnTo>
                  <a:pt x="137085" y="20200"/>
                </a:lnTo>
                <a:lnTo>
                  <a:pt x="137085" y="1400"/>
                </a:lnTo>
                <a:close/>
              </a:path>
              <a:path fill="darkenLess" w="138485" h="21600">
                <a:moveTo>
                  <a:pt x="138485" y="21600"/>
                </a:moveTo>
                <a:lnTo>
                  <a:pt x="0" y="21600"/>
                </a:lnTo>
                <a:lnTo>
                  <a:pt x="1400" y="20200"/>
                </a:lnTo>
                <a:lnTo>
                  <a:pt x="137085" y="20200"/>
                </a:lnTo>
                <a:close/>
              </a:path>
              <a:path fill="lighten" w="138485" h="21600">
                <a:moveTo>
                  <a:pt x="0" y="21600"/>
                </a:moveTo>
                <a:lnTo>
                  <a:pt x="0" y="0"/>
                </a:lnTo>
                <a:lnTo>
                  <a:pt x="1400" y="1400"/>
                </a:lnTo>
                <a:lnTo>
                  <a:pt x="1400" y="20200"/>
                </a:lnTo>
                <a:close/>
              </a:path>
              <a:path fill="darken" w="138485" h="21600">
                <a:moveTo>
                  <a:pt x="72741" y="10800"/>
                </a:moveTo>
                <a:lnTo>
                  <a:pt x="62236" y="17806"/>
                </a:lnTo>
                <a:lnTo>
                  <a:pt x="62236" y="3794"/>
                </a:lnTo>
                <a:close/>
              </a:path>
              <a:path fill="darken" w="138485" h="21600">
                <a:moveTo>
                  <a:pt x="74586" y="3794"/>
                </a:moveTo>
                <a:lnTo>
                  <a:pt x="74586" y="17806"/>
                </a:lnTo>
                <a:lnTo>
                  <a:pt x="76249" y="17806"/>
                </a:lnTo>
                <a:lnTo>
                  <a:pt x="76249" y="3794"/>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BE3BB93-67F0-41A7-A596-B5CC7F922C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IAGRAMA ESQUEMATICO</a:t>
            </a:r>
            <a:endParaRPr b="0" lang="en-US" sz="4400" spc="-1" strike="noStrike">
              <a:solidFill>
                <a:srgbClr val="000000"/>
              </a:solidFill>
              <a:latin typeface="Arial"/>
            </a:endParaRPr>
          </a:p>
        </p:txBody>
      </p:sp>
      <p:grpSp>
        <p:nvGrpSpPr>
          <p:cNvPr id="102" name=""/>
          <p:cNvGrpSpPr/>
          <p:nvPr/>
        </p:nvGrpSpPr>
        <p:grpSpPr>
          <a:xfrm>
            <a:off x="2395440" y="1682640"/>
            <a:ext cx="4243320" cy="4243320"/>
            <a:chOff x="2395440" y="1682640"/>
            <a:chExt cx="4243320" cy="4243320"/>
          </a:xfrm>
        </p:grpSpPr>
        <p:sp>
          <p:nvSpPr>
            <p:cNvPr id="103" name="_s21522"/>
            <p:cNvSpPr/>
            <p:nvPr/>
          </p:nvSpPr>
          <p:spPr>
            <a:xfrm flipV="1">
              <a:off x="4516560" y="2739960"/>
              <a:ext cx="0" cy="534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_s21521"/>
            <p:cNvSpPr/>
            <p:nvPr/>
          </p:nvSpPr>
          <p:spPr>
            <a:xfrm>
              <a:off x="3987720" y="1682640"/>
              <a:ext cx="1059120" cy="1059120"/>
            </a:xfrm>
            <a:prstGeom prst="ellipse">
              <a:avLst/>
            </a:prstGeom>
            <a:solidFill>
              <a:srgbClr val="ff0000"/>
            </a:solidFill>
            <a:ln w="28440">
              <a:solidFill>
                <a:srgbClr val="be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AFLE</a:t>
              </a:r>
              <a:endParaRPr b="0" lang="en-US" sz="1800" spc="-1" strike="noStrike">
                <a:solidFill>
                  <a:srgbClr val="000000"/>
                </a:solidFill>
                <a:latin typeface="Arial"/>
              </a:endParaRPr>
            </a:p>
          </p:txBody>
        </p:sp>
        <p:sp>
          <p:nvSpPr>
            <p:cNvPr id="105" name="_s21520"/>
            <p:cNvSpPr/>
            <p:nvPr/>
          </p:nvSpPr>
          <p:spPr>
            <a:xfrm>
              <a:off x="5045040" y="3803760"/>
              <a:ext cx="534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_s21519"/>
            <p:cNvSpPr/>
            <p:nvPr/>
          </p:nvSpPr>
          <p:spPr>
            <a:xfrm>
              <a:off x="5580000" y="3274920"/>
              <a:ext cx="1058760" cy="1059120"/>
            </a:xfrm>
            <a:prstGeom prst="ellipse">
              <a:avLst/>
            </a:prstGeom>
            <a:solidFill>
              <a:srgbClr val="01bd0a"/>
            </a:solidFill>
            <a:ln w="28440">
              <a:solidFill>
                <a:srgbClr val="01930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AFLE</a:t>
              </a:r>
              <a:endParaRPr b="0" lang="en-US" sz="1800" spc="-1" strike="noStrike">
                <a:solidFill>
                  <a:srgbClr val="000000"/>
                </a:solidFill>
                <a:latin typeface="Arial"/>
              </a:endParaRPr>
            </a:p>
          </p:txBody>
        </p:sp>
        <p:sp>
          <p:nvSpPr>
            <p:cNvPr id="107" name="_s21518"/>
            <p:cNvSpPr/>
            <p:nvPr/>
          </p:nvSpPr>
          <p:spPr>
            <a:xfrm>
              <a:off x="4516560" y="4332240"/>
              <a:ext cx="0" cy="534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_s21517"/>
            <p:cNvSpPr/>
            <p:nvPr/>
          </p:nvSpPr>
          <p:spPr>
            <a:xfrm>
              <a:off x="3987720" y="4867200"/>
              <a:ext cx="1059120" cy="1058760"/>
            </a:xfrm>
            <a:prstGeom prst="ellipse">
              <a:avLst/>
            </a:prstGeom>
            <a:solidFill>
              <a:srgbClr val="0399ff"/>
            </a:solidFill>
            <a:ln w="28440">
              <a:solidFill>
                <a:srgbClr val="4b59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AFLE</a:t>
              </a:r>
              <a:endParaRPr b="0" lang="en-US" sz="1800" spc="-1" strike="noStrike">
                <a:solidFill>
                  <a:srgbClr val="000000"/>
                </a:solidFill>
                <a:latin typeface="Arial"/>
              </a:endParaRPr>
            </a:p>
          </p:txBody>
        </p:sp>
        <p:sp>
          <p:nvSpPr>
            <p:cNvPr id="109" name="_s21516"/>
            <p:cNvSpPr/>
            <p:nvPr/>
          </p:nvSpPr>
          <p:spPr>
            <a:xfrm flipH="1">
              <a:off x="3452760" y="3803760"/>
              <a:ext cx="534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_s21515"/>
            <p:cNvSpPr/>
            <p:nvPr/>
          </p:nvSpPr>
          <p:spPr>
            <a:xfrm>
              <a:off x="2395440" y="3274920"/>
              <a:ext cx="1059120" cy="1059120"/>
            </a:xfrm>
            <a:prstGeom prst="ellipse">
              <a:avLst/>
            </a:prstGeom>
            <a:solidFill>
              <a:srgbClr val="ff8c01"/>
            </a:solidFill>
            <a:ln w="28440">
              <a:solidFill>
                <a:srgbClr val="d87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AFLE</a:t>
              </a:r>
              <a:endParaRPr b="0" lang="en-US" sz="1800" spc="-1" strike="noStrike">
                <a:solidFill>
                  <a:srgbClr val="000000"/>
                </a:solidFill>
                <a:latin typeface="Arial"/>
              </a:endParaRPr>
            </a:p>
          </p:txBody>
        </p:sp>
        <p:sp>
          <p:nvSpPr>
            <p:cNvPr id="111" name="_s21514"/>
            <p:cNvSpPr/>
            <p:nvPr/>
          </p:nvSpPr>
          <p:spPr>
            <a:xfrm>
              <a:off x="3987720" y="3274920"/>
              <a:ext cx="1059120" cy="1059120"/>
            </a:xfrm>
            <a:prstGeom prst="ellipse">
              <a:avLst/>
            </a:prstGeom>
            <a:solidFill>
              <a:srgbClr val="f1fd09"/>
            </a:solidFill>
            <a:ln w="28440">
              <a:solidFill>
                <a:srgbClr val="cad40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MPLIFICADOR</a:t>
              </a:r>
              <a:endParaRPr b="0" lang="en-US" sz="1800" spc="-1" strike="noStrike">
                <a:solidFill>
                  <a:srgbClr val="000000"/>
                </a:solidFill>
                <a:latin typeface="Arial"/>
              </a:endParaRPr>
            </a:p>
          </p:txBody>
        </p:sp>
      </p:grpSp>
      <p:sp>
        <p:nvSpPr>
          <p:cNvPr id="112" name=""/>
          <p:cNvSpPr/>
          <p:nvPr/>
        </p:nvSpPr>
        <p:spPr>
          <a:xfrm>
            <a:off x="2486160" y="364500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AFLE</a:t>
            </a:r>
            <a:endParaRPr b="0" lang="en-US" sz="1800" spc="-1" strike="noStrike">
              <a:solidFill>
                <a:srgbClr val="000000"/>
              </a:solidFill>
              <a:latin typeface="Arial"/>
            </a:endParaRPr>
          </a:p>
        </p:txBody>
      </p:sp>
      <p:sp>
        <p:nvSpPr>
          <p:cNvPr id="113" name="">
            <a:hlinkClick r:id="" action="ppaction://hlinkshowjump?jump=nextslide"/>
          </p:cNvPr>
          <p:cNvSpPr/>
          <p:nvPr/>
        </p:nvSpPr>
        <p:spPr>
          <a:xfrm>
            <a:off x="7451640" y="6165720"/>
            <a:ext cx="1297080" cy="405000"/>
          </a:xfrm>
          <a:custGeom>
            <a:avLst/>
            <a:gdLst>
              <a:gd name="textAreaLeft" fmla="*/ 25920 w 1297080"/>
              <a:gd name="textAreaRight" fmla="*/ 1271160 w 1297080"/>
              <a:gd name="textAreaTop" fmla="*/ 25920 h 405000"/>
              <a:gd name="textAreaBottom" fmla="*/ 379080 h 405000"/>
            </a:gdLst>
            <a:ahLst/>
            <a:rect l="textAreaLeft" t="textAreaTop" r="textAreaRight" b="textAreaBottom"/>
            <a:pathLst>
              <a:path w="69135" h="21600">
                <a:moveTo>
                  <a:pt x="0" y="0"/>
                </a:moveTo>
                <a:lnTo>
                  <a:pt x="69135" y="0"/>
                </a:lnTo>
                <a:lnTo>
                  <a:pt x="69135" y="21600"/>
                </a:lnTo>
                <a:lnTo>
                  <a:pt x="0" y="21600"/>
                </a:lnTo>
                <a:close/>
              </a:path>
              <a:path fill="lightenLess" w="69135" h="21600">
                <a:moveTo>
                  <a:pt x="0" y="0"/>
                </a:moveTo>
                <a:lnTo>
                  <a:pt x="69135" y="0"/>
                </a:lnTo>
                <a:lnTo>
                  <a:pt x="67735" y="1400"/>
                </a:lnTo>
                <a:lnTo>
                  <a:pt x="1400" y="1400"/>
                </a:lnTo>
                <a:close/>
              </a:path>
              <a:path fill="darken" w="69135" h="21600">
                <a:moveTo>
                  <a:pt x="69135" y="0"/>
                </a:moveTo>
                <a:lnTo>
                  <a:pt x="69135" y="21600"/>
                </a:lnTo>
                <a:lnTo>
                  <a:pt x="67735" y="20200"/>
                </a:lnTo>
                <a:lnTo>
                  <a:pt x="67735" y="1400"/>
                </a:lnTo>
                <a:close/>
              </a:path>
              <a:path fill="darkenLess" w="69135" h="21600">
                <a:moveTo>
                  <a:pt x="69135" y="21600"/>
                </a:moveTo>
                <a:lnTo>
                  <a:pt x="0" y="21600"/>
                </a:lnTo>
                <a:lnTo>
                  <a:pt x="1400" y="20200"/>
                </a:lnTo>
                <a:lnTo>
                  <a:pt x="67735" y="20200"/>
                </a:lnTo>
                <a:close/>
              </a:path>
              <a:path fill="lighten" w="69135" h="21600">
                <a:moveTo>
                  <a:pt x="0" y="21600"/>
                </a:moveTo>
                <a:lnTo>
                  <a:pt x="0" y="0"/>
                </a:lnTo>
                <a:lnTo>
                  <a:pt x="1400" y="1400"/>
                </a:lnTo>
                <a:lnTo>
                  <a:pt x="1400" y="20200"/>
                </a:lnTo>
                <a:close/>
              </a:path>
              <a:path fill="darken" w="69135" h="21600">
                <a:moveTo>
                  <a:pt x="27561" y="3794"/>
                </a:moveTo>
                <a:lnTo>
                  <a:pt x="41574" y="10800"/>
                </a:lnTo>
                <a:lnTo>
                  <a:pt x="275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a:hlinkClick r:id="rId1" action="ppaction://hlinksldjump"/>
          </p:cNvPr>
          <p:cNvSpPr/>
          <p:nvPr/>
        </p:nvSpPr>
        <p:spPr>
          <a:xfrm>
            <a:off x="3780000" y="6165720"/>
            <a:ext cx="1439640" cy="393840"/>
          </a:xfrm>
          <a:custGeom>
            <a:avLst/>
            <a:gdLst>
              <a:gd name="textAreaLeft" fmla="*/ 25200 w 1439640"/>
              <a:gd name="textAreaRight" fmla="*/ 1414440 w 1439640"/>
              <a:gd name="textAreaTop" fmla="*/ 25200 h 393840"/>
              <a:gd name="textAreaBottom" fmla="*/ 368640 h 393840"/>
            </a:gdLst>
            <a:ahLst/>
            <a:rect l="textAreaLeft" t="textAreaTop" r="textAreaRight" b="textAreaBottom"/>
            <a:pathLst>
              <a:path w="78904" h="21600">
                <a:moveTo>
                  <a:pt x="0" y="0"/>
                </a:moveTo>
                <a:lnTo>
                  <a:pt x="78904" y="0"/>
                </a:lnTo>
                <a:lnTo>
                  <a:pt x="78904" y="21600"/>
                </a:lnTo>
                <a:lnTo>
                  <a:pt x="0" y="21600"/>
                </a:lnTo>
                <a:close/>
              </a:path>
              <a:path fill="lightenLess" w="78904" h="21600">
                <a:moveTo>
                  <a:pt x="0" y="0"/>
                </a:moveTo>
                <a:lnTo>
                  <a:pt x="78904" y="0"/>
                </a:lnTo>
                <a:lnTo>
                  <a:pt x="77504" y="1400"/>
                </a:lnTo>
                <a:lnTo>
                  <a:pt x="1400" y="1400"/>
                </a:lnTo>
                <a:close/>
              </a:path>
              <a:path fill="darken" w="78904" h="21600">
                <a:moveTo>
                  <a:pt x="78904" y="0"/>
                </a:moveTo>
                <a:lnTo>
                  <a:pt x="78904" y="21600"/>
                </a:lnTo>
                <a:lnTo>
                  <a:pt x="77504" y="20200"/>
                </a:lnTo>
                <a:lnTo>
                  <a:pt x="77504" y="1400"/>
                </a:lnTo>
                <a:close/>
              </a:path>
              <a:path fill="darkenLess" w="78904" h="21600">
                <a:moveTo>
                  <a:pt x="78904" y="21600"/>
                </a:moveTo>
                <a:lnTo>
                  <a:pt x="0" y="21600"/>
                </a:lnTo>
                <a:lnTo>
                  <a:pt x="1400" y="20200"/>
                </a:lnTo>
                <a:lnTo>
                  <a:pt x="77504" y="20200"/>
                </a:lnTo>
                <a:close/>
              </a:path>
              <a:path fill="lighten" w="78904" h="21600">
                <a:moveTo>
                  <a:pt x="0" y="21600"/>
                </a:moveTo>
                <a:lnTo>
                  <a:pt x="0" y="0"/>
                </a:lnTo>
                <a:lnTo>
                  <a:pt x="1400" y="1400"/>
                </a:lnTo>
                <a:lnTo>
                  <a:pt x="1400" y="20200"/>
                </a:lnTo>
                <a:close/>
              </a:path>
              <a:path fill="darken" w="78904" h="21600">
                <a:moveTo>
                  <a:pt x="32446" y="7493"/>
                </a:moveTo>
                <a:lnTo>
                  <a:pt x="35953" y="7493"/>
                </a:lnTo>
                <a:lnTo>
                  <a:pt x="35953" y="12828"/>
                </a:lnTo>
                <a:cubicBezTo>
                  <a:pt x="35953" y="13751"/>
                  <a:pt x="36754" y="14482"/>
                  <a:pt x="37790" y="14482"/>
                </a:cubicBezTo>
                <a:lnTo>
                  <a:pt x="39452" y="14482"/>
                </a:lnTo>
                <a:cubicBezTo>
                  <a:pt x="40488" y="14482"/>
                  <a:pt x="41289" y="13751"/>
                  <a:pt x="41289" y="12828"/>
                </a:cubicBezTo>
                <a:lnTo>
                  <a:pt x="41289" y="7493"/>
                </a:lnTo>
                <a:lnTo>
                  <a:pt x="39452" y="7493"/>
                </a:lnTo>
                <a:lnTo>
                  <a:pt x="42960" y="3985"/>
                </a:lnTo>
                <a:lnTo>
                  <a:pt x="46633" y="7493"/>
                </a:lnTo>
                <a:lnTo>
                  <a:pt x="44796" y="7493"/>
                </a:lnTo>
                <a:lnTo>
                  <a:pt x="44796" y="12828"/>
                </a:lnTo>
                <a:cubicBezTo>
                  <a:pt x="44796" y="15596"/>
                  <a:pt x="42220" y="18155"/>
                  <a:pt x="39452" y="18155"/>
                </a:cubicBezTo>
                <a:lnTo>
                  <a:pt x="37790" y="18155"/>
                </a:lnTo>
                <a:cubicBezTo>
                  <a:pt x="35022" y="18155"/>
                  <a:pt x="32446" y="15596"/>
                  <a:pt x="32446"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a:hlinkClick r:id="rId2" action="ppaction://hlinksldjump"/>
          </p:cNvPr>
          <p:cNvSpPr/>
          <p:nvPr/>
        </p:nvSpPr>
        <p:spPr>
          <a:xfrm>
            <a:off x="324000" y="6165720"/>
            <a:ext cx="1223640" cy="393840"/>
          </a:xfrm>
          <a:custGeom>
            <a:avLst/>
            <a:gdLst>
              <a:gd name="textAreaLeft" fmla="*/ 25200 w 1223640"/>
              <a:gd name="textAreaRight" fmla="*/ 1198440 w 1223640"/>
              <a:gd name="textAreaTop" fmla="*/ 25200 h 393840"/>
              <a:gd name="textAreaBottom" fmla="*/ 368640 h 393840"/>
            </a:gdLst>
            <a:ahLst/>
            <a:rect l="textAreaLeft" t="textAreaTop" r="textAreaRight" b="textAreaBottom"/>
            <a:pathLst>
              <a:path w="67068" h="21600">
                <a:moveTo>
                  <a:pt x="0" y="0"/>
                </a:moveTo>
                <a:lnTo>
                  <a:pt x="67068" y="0"/>
                </a:lnTo>
                <a:lnTo>
                  <a:pt x="67068" y="21600"/>
                </a:lnTo>
                <a:lnTo>
                  <a:pt x="0" y="21600"/>
                </a:lnTo>
                <a:close/>
              </a:path>
              <a:path fill="lightenLess" w="67068" h="21600">
                <a:moveTo>
                  <a:pt x="0" y="0"/>
                </a:moveTo>
                <a:lnTo>
                  <a:pt x="67068" y="0"/>
                </a:lnTo>
                <a:lnTo>
                  <a:pt x="65668" y="1400"/>
                </a:lnTo>
                <a:lnTo>
                  <a:pt x="1400" y="1400"/>
                </a:lnTo>
                <a:close/>
              </a:path>
              <a:path fill="darken" w="67068" h="21600">
                <a:moveTo>
                  <a:pt x="67068" y="0"/>
                </a:moveTo>
                <a:lnTo>
                  <a:pt x="67068" y="21600"/>
                </a:lnTo>
                <a:lnTo>
                  <a:pt x="65668" y="20200"/>
                </a:lnTo>
                <a:lnTo>
                  <a:pt x="65668" y="1400"/>
                </a:lnTo>
                <a:close/>
              </a:path>
              <a:path fill="darkenLess" w="67068" h="21600">
                <a:moveTo>
                  <a:pt x="67068" y="21600"/>
                </a:moveTo>
                <a:lnTo>
                  <a:pt x="0" y="21600"/>
                </a:lnTo>
                <a:lnTo>
                  <a:pt x="1400" y="20200"/>
                </a:lnTo>
                <a:lnTo>
                  <a:pt x="65668" y="20200"/>
                </a:lnTo>
                <a:close/>
              </a:path>
              <a:path fill="lighten" w="67068" h="21600">
                <a:moveTo>
                  <a:pt x="0" y="21600"/>
                </a:moveTo>
                <a:lnTo>
                  <a:pt x="0" y="0"/>
                </a:lnTo>
                <a:lnTo>
                  <a:pt x="1400" y="1400"/>
                </a:lnTo>
                <a:lnTo>
                  <a:pt x="1400" y="20200"/>
                </a:lnTo>
                <a:close/>
              </a:path>
              <a:path fill="darken" w="67068" h="21600">
                <a:moveTo>
                  <a:pt x="26528" y="10800"/>
                </a:moveTo>
                <a:lnTo>
                  <a:pt x="40541" y="3794"/>
                </a:lnTo>
                <a:lnTo>
                  <a:pt x="4054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A97E94A-23EE-4149-ADD2-C419CCAFA8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81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IAGRAMA PICTORICO</a:t>
            </a:r>
            <a:endParaRPr b="0" lang="en-US" sz="4400" spc="-1" strike="noStrike">
              <a:solidFill>
                <a:srgbClr val="000000"/>
              </a:solidFill>
              <a:latin typeface="Arial"/>
            </a:endParaRPr>
          </a:p>
        </p:txBody>
      </p:sp>
      <p:pic>
        <p:nvPicPr>
          <p:cNvPr id="117" name="" descr=""/>
          <p:cNvPicPr/>
          <p:nvPr/>
        </p:nvPicPr>
        <p:blipFill>
          <a:blip r:embed="rId1"/>
          <a:stretch/>
        </p:blipFill>
        <p:spPr>
          <a:xfrm>
            <a:off x="2843280" y="1700280"/>
            <a:ext cx="3052800" cy="3816360"/>
          </a:xfrm>
          <a:prstGeom prst="rect">
            <a:avLst/>
          </a:prstGeom>
          <a:ln w="0">
            <a:noFill/>
          </a:ln>
        </p:spPr>
      </p:pic>
      <p:sp>
        <p:nvSpPr>
          <p:cNvPr id="118" name="">
            <a:hlinkClick r:id="" action="ppaction://hlinkshowjump?jump=previousslide"/>
          </p:cNvPr>
          <p:cNvSpPr/>
          <p:nvPr/>
        </p:nvSpPr>
        <p:spPr>
          <a:xfrm>
            <a:off x="250920" y="6165720"/>
            <a:ext cx="1042920" cy="466920"/>
          </a:xfrm>
          <a:custGeom>
            <a:avLst/>
            <a:gdLst>
              <a:gd name="textAreaLeft" fmla="*/ 30240 w 1042920"/>
              <a:gd name="textAreaRight" fmla="*/ 1012680 w 1042920"/>
              <a:gd name="textAreaTop" fmla="*/ 30240 h 466920"/>
              <a:gd name="textAreaBottom" fmla="*/ 436680 h 466920"/>
            </a:gdLst>
            <a:ahLst/>
            <a:rect l="textAreaLeft" t="textAreaTop" r="textAreaRight" b="textAreaBottom"/>
            <a:pathLst>
              <a:path w="48226" h="21600">
                <a:moveTo>
                  <a:pt x="0" y="0"/>
                </a:moveTo>
                <a:lnTo>
                  <a:pt x="48226" y="0"/>
                </a:lnTo>
                <a:lnTo>
                  <a:pt x="48226" y="21600"/>
                </a:lnTo>
                <a:lnTo>
                  <a:pt x="0" y="21600"/>
                </a:lnTo>
                <a:close/>
              </a:path>
              <a:path fill="lightenLess" w="48226" h="21600">
                <a:moveTo>
                  <a:pt x="0" y="0"/>
                </a:moveTo>
                <a:lnTo>
                  <a:pt x="48226" y="0"/>
                </a:lnTo>
                <a:lnTo>
                  <a:pt x="46826" y="1400"/>
                </a:lnTo>
                <a:lnTo>
                  <a:pt x="1400" y="1400"/>
                </a:lnTo>
                <a:close/>
              </a:path>
              <a:path fill="darken" w="48226" h="21600">
                <a:moveTo>
                  <a:pt x="48226" y="0"/>
                </a:moveTo>
                <a:lnTo>
                  <a:pt x="48226" y="21600"/>
                </a:lnTo>
                <a:lnTo>
                  <a:pt x="46826" y="20200"/>
                </a:lnTo>
                <a:lnTo>
                  <a:pt x="46826" y="1400"/>
                </a:lnTo>
                <a:close/>
              </a:path>
              <a:path fill="darkenLess" w="48226" h="21600">
                <a:moveTo>
                  <a:pt x="48226" y="21600"/>
                </a:moveTo>
                <a:lnTo>
                  <a:pt x="0" y="21600"/>
                </a:lnTo>
                <a:lnTo>
                  <a:pt x="1400" y="20200"/>
                </a:lnTo>
                <a:lnTo>
                  <a:pt x="46826" y="20200"/>
                </a:lnTo>
                <a:close/>
              </a:path>
              <a:path fill="lighten" w="48226" h="21600">
                <a:moveTo>
                  <a:pt x="0" y="21600"/>
                </a:moveTo>
                <a:lnTo>
                  <a:pt x="0" y="0"/>
                </a:lnTo>
                <a:lnTo>
                  <a:pt x="1400" y="1400"/>
                </a:lnTo>
                <a:lnTo>
                  <a:pt x="1400" y="20200"/>
                </a:lnTo>
                <a:close/>
              </a:path>
              <a:path fill="darken" w="48226" h="21600">
                <a:moveTo>
                  <a:pt x="17106" y="10800"/>
                </a:moveTo>
                <a:lnTo>
                  <a:pt x="31119" y="3794"/>
                </a:lnTo>
                <a:lnTo>
                  <a:pt x="3111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a:hlinkClick r:id="" action="ppaction://hlinkshowjump?jump=nextslide"/>
          </p:cNvPr>
          <p:cNvSpPr/>
          <p:nvPr/>
        </p:nvSpPr>
        <p:spPr>
          <a:xfrm>
            <a:off x="7451640" y="6165720"/>
            <a:ext cx="1297080" cy="405000"/>
          </a:xfrm>
          <a:custGeom>
            <a:avLst/>
            <a:gdLst>
              <a:gd name="textAreaLeft" fmla="*/ 25920 w 1297080"/>
              <a:gd name="textAreaRight" fmla="*/ 1271160 w 1297080"/>
              <a:gd name="textAreaTop" fmla="*/ 25920 h 405000"/>
              <a:gd name="textAreaBottom" fmla="*/ 379080 h 405000"/>
            </a:gdLst>
            <a:ahLst/>
            <a:rect l="textAreaLeft" t="textAreaTop" r="textAreaRight" b="textAreaBottom"/>
            <a:pathLst>
              <a:path w="69135" h="21600">
                <a:moveTo>
                  <a:pt x="0" y="0"/>
                </a:moveTo>
                <a:lnTo>
                  <a:pt x="69135" y="0"/>
                </a:lnTo>
                <a:lnTo>
                  <a:pt x="69135" y="21600"/>
                </a:lnTo>
                <a:lnTo>
                  <a:pt x="0" y="21600"/>
                </a:lnTo>
                <a:close/>
              </a:path>
              <a:path fill="lightenLess" w="69135" h="21600">
                <a:moveTo>
                  <a:pt x="0" y="0"/>
                </a:moveTo>
                <a:lnTo>
                  <a:pt x="69135" y="0"/>
                </a:lnTo>
                <a:lnTo>
                  <a:pt x="67735" y="1400"/>
                </a:lnTo>
                <a:lnTo>
                  <a:pt x="1400" y="1400"/>
                </a:lnTo>
                <a:close/>
              </a:path>
              <a:path fill="darken" w="69135" h="21600">
                <a:moveTo>
                  <a:pt x="69135" y="0"/>
                </a:moveTo>
                <a:lnTo>
                  <a:pt x="69135" y="21600"/>
                </a:lnTo>
                <a:lnTo>
                  <a:pt x="67735" y="20200"/>
                </a:lnTo>
                <a:lnTo>
                  <a:pt x="67735" y="1400"/>
                </a:lnTo>
                <a:close/>
              </a:path>
              <a:path fill="darkenLess" w="69135" h="21600">
                <a:moveTo>
                  <a:pt x="69135" y="21600"/>
                </a:moveTo>
                <a:lnTo>
                  <a:pt x="0" y="21600"/>
                </a:lnTo>
                <a:lnTo>
                  <a:pt x="1400" y="20200"/>
                </a:lnTo>
                <a:lnTo>
                  <a:pt x="67735" y="20200"/>
                </a:lnTo>
                <a:close/>
              </a:path>
              <a:path fill="lighten" w="69135" h="21600">
                <a:moveTo>
                  <a:pt x="0" y="21600"/>
                </a:moveTo>
                <a:lnTo>
                  <a:pt x="0" y="0"/>
                </a:lnTo>
                <a:lnTo>
                  <a:pt x="1400" y="1400"/>
                </a:lnTo>
                <a:lnTo>
                  <a:pt x="1400" y="20200"/>
                </a:lnTo>
                <a:close/>
              </a:path>
              <a:path fill="darken" w="69135" h="21600">
                <a:moveTo>
                  <a:pt x="27561" y="3794"/>
                </a:moveTo>
                <a:lnTo>
                  <a:pt x="41574" y="10800"/>
                </a:lnTo>
                <a:lnTo>
                  <a:pt x="275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a:hlinkClick r:id="rId2" action="ppaction://hlinksldjump"/>
          </p:cNvPr>
          <p:cNvSpPr/>
          <p:nvPr/>
        </p:nvSpPr>
        <p:spPr>
          <a:xfrm>
            <a:off x="3780000" y="6165720"/>
            <a:ext cx="1439640" cy="393840"/>
          </a:xfrm>
          <a:custGeom>
            <a:avLst/>
            <a:gdLst>
              <a:gd name="textAreaLeft" fmla="*/ 25200 w 1439640"/>
              <a:gd name="textAreaRight" fmla="*/ 1414440 w 1439640"/>
              <a:gd name="textAreaTop" fmla="*/ 25200 h 393840"/>
              <a:gd name="textAreaBottom" fmla="*/ 368640 h 393840"/>
            </a:gdLst>
            <a:ahLst/>
            <a:rect l="textAreaLeft" t="textAreaTop" r="textAreaRight" b="textAreaBottom"/>
            <a:pathLst>
              <a:path w="78904" h="21600">
                <a:moveTo>
                  <a:pt x="0" y="0"/>
                </a:moveTo>
                <a:lnTo>
                  <a:pt x="78904" y="0"/>
                </a:lnTo>
                <a:lnTo>
                  <a:pt x="78904" y="21600"/>
                </a:lnTo>
                <a:lnTo>
                  <a:pt x="0" y="21600"/>
                </a:lnTo>
                <a:close/>
              </a:path>
              <a:path fill="lightenLess" w="78904" h="21600">
                <a:moveTo>
                  <a:pt x="0" y="0"/>
                </a:moveTo>
                <a:lnTo>
                  <a:pt x="78904" y="0"/>
                </a:lnTo>
                <a:lnTo>
                  <a:pt x="77504" y="1400"/>
                </a:lnTo>
                <a:lnTo>
                  <a:pt x="1400" y="1400"/>
                </a:lnTo>
                <a:close/>
              </a:path>
              <a:path fill="darken" w="78904" h="21600">
                <a:moveTo>
                  <a:pt x="78904" y="0"/>
                </a:moveTo>
                <a:lnTo>
                  <a:pt x="78904" y="21600"/>
                </a:lnTo>
                <a:lnTo>
                  <a:pt x="77504" y="20200"/>
                </a:lnTo>
                <a:lnTo>
                  <a:pt x="77504" y="1400"/>
                </a:lnTo>
                <a:close/>
              </a:path>
              <a:path fill="darkenLess" w="78904" h="21600">
                <a:moveTo>
                  <a:pt x="78904" y="21600"/>
                </a:moveTo>
                <a:lnTo>
                  <a:pt x="0" y="21600"/>
                </a:lnTo>
                <a:lnTo>
                  <a:pt x="1400" y="20200"/>
                </a:lnTo>
                <a:lnTo>
                  <a:pt x="77504" y="20200"/>
                </a:lnTo>
                <a:close/>
              </a:path>
              <a:path fill="lighten" w="78904" h="21600">
                <a:moveTo>
                  <a:pt x="0" y="21600"/>
                </a:moveTo>
                <a:lnTo>
                  <a:pt x="0" y="0"/>
                </a:lnTo>
                <a:lnTo>
                  <a:pt x="1400" y="1400"/>
                </a:lnTo>
                <a:lnTo>
                  <a:pt x="1400" y="20200"/>
                </a:lnTo>
                <a:close/>
              </a:path>
              <a:path fill="darken" w="78904" h="21600">
                <a:moveTo>
                  <a:pt x="32446" y="7493"/>
                </a:moveTo>
                <a:lnTo>
                  <a:pt x="35953" y="7493"/>
                </a:lnTo>
                <a:lnTo>
                  <a:pt x="35953" y="12828"/>
                </a:lnTo>
                <a:cubicBezTo>
                  <a:pt x="35953" y="13751"/>
                  <a:pt x="36754" y="14482"/>
                  <a:pt x="37790" y="14482"/>
                </a:cubicBezTo>
                <a:lnTo>
                  <a:pt x="39452" y="14482"/>
                </a:lnTo>
                <a:cubicBezTo>
                  <a:pt x="40488" y="14482"/>
                  <a:pt x="41289" y="13751"/>
                  <a:pt x="41289" y="12828"/>
                </a:cubicBezTo>
                <a:lnTo>
                  <a:pt x="41289" y="7493"/>
                </a:lnTo>
                <a:lnTo>
                  <a:pt x="39452" y="7493"/>
                </a:lnTo>
                <a:lnTo>
                  <a:pt x="42960" y="3985"/>
                </a:lnTo>
                <a:lnTo>
                  <a:pt x="46633" y="7493"/>
                </a:lnTo>
                <a:lnTo>
                  <a:pt x="44796" y="7493"/>
                </a:lnTo>
                <a:lnTo>
                  <a:pt x="44796" y="12828"/>
                </a:lnTo>
                <a:cubicBezTo>
                  <a:pt x="44796" y="15596"/>
                  <a:pt x="42220" y="18155"/>
                  <a:pt x="39452" y="18155"/>
                </a:cubicBezTo>
                <a:lnTo>
                  <a:pt x="37790" y="18155"/>
                </a:lnTo>
                <a:cubicBezTo>
                  <a:pt x="35022" y="18155"/>
                  <a:pt x="32446" y="15596"/>
                  <a:pt x="32446"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DA4F217-51E1-47B4-A516-2AAB6C6016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50000">
              <a:srgbClr val="3399ff"/>
            </a:gs>
            <a:gs pos="100000">
              <a:srgbClr val="006699"/>
            </a:gs>
          </a:gsLst>
          <a:lin ang="81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PROCEDIMIENTO</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HAZ EL BOCETO DE TU BAFLE DE ACUERDO A TU BOCIN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RTA LA MADERA DE ACUERDO A TU BOCETO</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RMA TU BAFLE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FORRALO</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N EL CABLE CONECTA CADA UNO DE LOS BAFLES A EL AMPLIFICADOR</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NECTA TUS DICSMAN AL AMPLIFICADOR Y SONORIZA</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
            <a:hlinkClick r:id="" action="ppaction://hlinkshowjump?jump=previousslide"/>
          </p:cNvPr>
          <p:cNvSpPr/>
          <p:nvPr/>
        </p:nvSpPr>
        <p:spPr>
          <a:xfrm>
            <a:off x="250920" y="6165720"/>
            <a:ext cx="1042920" cy="466920"/>
          </a:xfrm>
          <a:custGeom>
            <a:avLst/>
            <a:gdLst>
              <a:gd name="textAreaLeft" fmla="*/ 30240 w 1042920"/>
              <a:gd name="textAreaRight" fmla="*/ 1012680 w 1042920"/>
              <a:gd name="textAreaTop" fmla="*/ 30240 h 466920"/>
              <a:gd name="textAreaBottom" fmla="*/ 436680 h 466920"/>
            </a:gdLst>
            <a:ahLst/>
            <a:rect l="textAreaLeft" t="textAreaTop" r="textAreaRight" b="textAreaBottom"/>
            <a:pathLst>
              <a:path w="48226" h="21600">
                <a:moveTo>
                  <a:pt x="0" y="0"/>
                </a:moveTo>
                <a:lnTo>
                  <a:pt x="48226" y="0"/>
                </a:lnTo>
                <a:lnTo>
                  <a:pt x="48226" y="21600"/>
                </a:lnTo>
                <a:lnTo>
                  <a:pt x="0" y="21600"/>
                </a:lnTo>
                <a:close/>
              </a:path>
              <a:path fill="lightenLess" w="48226" h="21600">
                <a:moveTo>
                  <a:pt x="0" y="0"/>
                </a:moveTo>
                <a:lnTo>
                  <a:pt x="48226" y="0"/>
                </a:lnTo>
                <a:lnTo>
                  <a:pt x="46826" y="1400"/>
                </a:lnTo>
                <a:lnTo>
                  <a:pt x="1400" y="1400"/>
                </a:lnTo>
                <a:close/>
              </a:path>
              <a:path fill="darken" w="48226" h="21600">
                <a:moveTo>
                  <a:pt x="48226" y="0"/>
                </a:moveTo>
                <a:lnTo>
                  <a:pt x="48226" y="21600"/>
                </a:lnTo>
                <a:lnTo>
                  <a:pt x="46826" y="20200"/>
                </a:lnTo>
                <a:lnTo>
                  <a:pt x="46826" y="1400"/>
                </a:lnTo>
                <a:close/>
              </a:path>
              <a:path fill="darkenLess" w="48226" h="21600">
                <a:moveTo>
                  <a:pt x="48226" y="21600"/>
                </a:moveTo>
                <a:lnTo>
                  <a:pt x="0" y="21600"/>
                </a:lnTo>
                <a:lnTo>
                  <a:pt x="1400" y="20200"/>
                </a:lnTo>
                <a:lnTo>
                  <a:pt x="46826" y="20200"/>
                </a:lnTo>
                <a:close/>
              </a:path>
              <a:path fill="lighten" w="48226" h="21600">
                <a:moveTo>
                  <a:pt x="0" y="21600"/>
                </a:moveTo>
                <a:lnTo>
                  <a:pt x="0" y="0"/>
                </a:lnTo>
                <a:lnTo>
                  <a:pt x="1400" y="1400"/>
                </a:lnTo>
                <a:lnTo>
                  <a:pt x="1400" y="20200"/>
                </a:lnTo>
                <a:close/>
              </a:path>
              <a:path fill="darken" w="48226" h="21600">
                <a:moveTo>
                  <a:pt x="17106" y="10800"/>
                </a:moveTo>
                <a:lnTo>
                  <a:pt x="31119" y="3794"/>
                </a:lnTo>
                <a:lnTo>
                  <a:pt x="3111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a:hlinkClick r:id="" action="ppaction://hlinkshowjump?jump=nextslide"/>
          </p:cNvPr>
          <p:cNvSpPr/>
          <p:nvPr/>
        </p:nvSpPr>
        <p:spPr>
          <a:xfrm>
            <a:off x="7451640" y="6165720"/>
            <a:ext cx="1297080" cy="405000"/>
          </a:xfrm>
          <a:custGeom>
            <a:avLst/>
            <a:gdLst>
              <a:gd name="textAreaLeft" fmla="*/ 25920 w 1297080"/>
              <a:gd name="textAreaRight" fmla="*/ 1271160 w 1297080"/>
              <a:gd name="textAreaTop" fmla="*/ 25920 h 405000"/>
              <a:gd name="textAreaBottom" fmla="*/ 379080 h 405000"/>
            </a:gdLst>
            <a:ahLst/>
            <a:rect l="textAreaLeft" t="textAreaTop" r="textAreaRight" b="textAreaBottom"/>
            <a:pathLst>
              <a:path w="69135" h="21600">
                <a:moveTo>
                  <a:pt x="0" y="0"/>
                </a:moveTo>
                <a:lnTo>
                  <a:pt x="69135" y="0"/>
                </a:lnTo>
                <a:lnTo>
                  <a:pt x="69135" y="21600"/>
                </a:lnTo>
                <a:lnTo>
                  <a:pt x="0" y="21600"/>
                </a:lnTo>
                <a:close/>
              </a:path>
              <a:path fill="lightenLess" w="69135" h="21600">
                <a:moveTo>
                  <a:pt x="0" y="0"/>
                </a:moveTo>
                <a:lnTo>
                  <a:pt x="69135" y="0"/>
                </a:lnTo>
                <a:lnTo>
                  <a:pt x="67735" y="1400"/>
                </a:lnTo>
                <a:lnTo>
                  <a:pt x="1400" y="1400"/>
                </a:lnTo>
                <a:close/>
              </a:path>
              <a:path fill="darken" w="69135" h="21600">
                <a:moveTo>
                  <a:pt x="69135" y="0"/>
                </a:moveTo>
                <a:lnTo>
                  <a:pt x="69135" y="21600"/>
                </a:lnTo>
                <a:lnTo>
                  <a:pt x="67735" y="20200"/>
                </a:lnTo>
                <a:lnTo>
                  <a:pt x="67735" y="1400"/>
                </a:lnTo>
                <a:close/>
              </a:path>
              <a:path fill="darkenLess" w="69135" h="21600">
                <a:moveTo>
                  <a:pt x="69135" y="21600"/>
                </a:moveTo>
                <a:lnTo>
                  <a:pt x="0" y="21600"/>
                </a:lnTo>
                <a:lnTo>
                  <a:pt x="1400" y="20200"/>
                </a:lnTo>
                <a:lnTo>
                  <a:pt x="67735" y="20200"/>
                </a:lnTo>
                <a:close/>
              </a:path>
              <a:path fill="lighten" w="69135" h="21600">
                <a:moveTo>
                  <a:pt x="0" y="21600"/>
                </a:moveTo>
                <a:lnTo>
                  <a:pt x="0" y="0"/>
                </a:lnTo>
                <a:lnTo>
                  <a:pt x="1400" y="1400"/>
                </a:lnTo>
                <a:lnTo>
                  <a:pt x="1400" y="20200"/>
                </a:lnTo>
                <a:close/>
              </a:path>
              <a:path fill="darken" w="69135" h="21600">
                <a:moveTo>
                  <a:pt x="27561" y="3794"/>
                </a:moveTo>
                <a:lnTo>
                  <a:pt x="41574" y="10800"/>
                </a:lnTo>
                <a:lnTo>
                  <a:pt x="275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a:hlinkClick r:id="rId1" action="ppaction://hlinksldjump"/>
          </p:cNvPr>
          <p:cNvSpPr/>
          <p:nvPr/>
        </p:nvSpPr>
        <p:spPr>
          <a:xfrm>
            <a:off x="3780000" y="6165720"/>
            <a:ext cx="1439640" cy="393840"/>
          </a:xfrm>
          <a:custGeom>
            <a:avLst/>
            <a:gdLst>
              <a:gd name="textAreaLeft" fmla="*/ 25200 w 1439640"/>
              <a:gd name="textAreaRight" fmla="*/ 1414440 w 1439640"/>
              <a:gd name="textAreaTop" fmla="*/ 25200 h 393840"/>
              <a:gd name="textAreaBottom" fmla="*/ 368640 h 393840"/>
            </a:gdLst>
            <a:ahLst/>
            <a:rect l="textAreaLeft" t="textAreaTop" r="textAreaRight" b="textAreaBottom"/>
            <a:pathLst>
              <a:path w="78904" h="21600">
                <a:moveTo>
                  <a:pt x="0" y="0"/>
                </a:moveTo>
                <a:lnTo>
                  <a:pt x="78904" y="0"/>
                </a:lnTo>
                <a:lnTo>
                  <a:pt x="78904" y="21600"/>
                </a:lnTo>
                <a:lnTo>
                  <a:pt x="0" y="21600"/>
                </a:lnTo>
                <a:close/>
              </a:path>
              <a:path fill="lightenLess" w="78904" h="21600">
                <a:moveTo>
                  <a:pt x="0" y="0"/>
                </a:moveTo>
                <a:lnTo>
                  <a:pt x="78904" y="0"/>
                </a:lnTo>
                <a:lnTo>
                  <a:pt x="77504" y="1400"/>
                </a:lnTo>
                <a:lnTo>
                  <a:pt x="1400" y="1400"/>
                </a:lnTo>
                <a:close/>
              </a:path>
              <a:path fill="darken" w="78904" h="21600">
                <a:moveTo>
                  <a:pt x="78904" y="0"/>
                </a:moveTo>
                <a:lnTo>
                  <a:pt x="78904" y="21600"/>
                </a:lnTo>
                <a:lnTo>
                  <a:pt x="77504" y="20200"/>
                </a:lnTo>
                <a:lnTo>
                  <a:pt x="77504" y="1400"/>
                </a:lnTo>
                <a:close/>
              </a:path>
              <a:path fill="darkenLess" w="78904" h="21600">
                <a:moveTo>
                  <a:pt x="78904" y="21600"/>
                </a:moveTo>
                <a:lnTo>
                  <a:pt x="0" y="21600"/>
                </a:lnTo>
                <a:lnTo>
                  <a:pt x="1400" y="20200"/>
                </a:lnTo>
                <a:lnTo>
                  <a:pt x="77504" y="20200"/>
                </a:lnTo>
                <a:close/>
              </a:path>
              <a:path fill="lighten" w="78904" h="21600">
                <a:moveTo>
                  <a:pt x="0" y="21600"/>
                </a:moveTo>
                <a:lnTo>
                  <a:pt x="0" y="0"/>
                </a:lnTo>
                <a:lnTo>
                  <a:pt x="1400" y="1400"/>
                </a:lnTo>
                <a:lnTo>
                  <a:pt x="1400" y="20200"/>
                </a:lnTo>
                <a:close/>
              </a:path>
              <a:path fill="darken" w="78904" h="21600">
                <a:moveTo>
                  <a:pt x="32446" y="7493"/>
                </a:moveTo>
                <a:lnTo>
                  <a:pt x="35953" y="7493"/>
                </a:lnTo>
                <a:lnTo>
                  <a:pt x="35953" y="12828"/>
                </a:lnTo>
                <a:cubicBezTo>
                  <a:pt x="35953" y="13751"/>
                  <a:pt x="36754" y="14482"/>
                  <a:pt x="37790" y="14482"/>
                </a:cubicBezTo>
                <a:lnTo>
                  <a:pt x="39452" y="14482"/>
                </a:lnTo>
                <a:cubicBezTo>
                  <a:pt x="40488" y="14482"/>
                  <a:pt x="41289" y="13751"/>
                  <a:pt x="41289" y="12828"/>
                </a:cubicBezTo>
                <a:lnTo>
                  <a:pt x="41289" y="7493"/>
                </a:lnTo>
                <a:lnTo>
                  <a:pt x="39452" y="7493"/>
                </a:lnTo>
                <a:lnTo>
                  <a:pt x="42960" y="3985"/>
                </a:lnTo>
                <a:lnTo>
                  <a:pt x="46633" y="7493"/>
                </a:lnTo>
                <a:lnTo>
                  <a:pt x="44796" y="7493"/>
                </a:lnTo>
                <a:lnTo>
                  <a:pt x="44796" y="12828"/>
                </a:lnTo>
                <a:cubicBezTo>
                  <a:pt x="44796" y="15596"/>
                  <a:pt x="42220" y="18155"/>
                  <a:pt x="39452" y="18155"/>
                </a:cubicBezTo>
                <a:lnTo>
                  <a:pt x="37790" y="18155"/>
                </a:lnTo>
                <a:cubicBezTo>
                  <a:pt x="35022" y="18155"/>
                  <a:pt x="32446" y="15596"/>
                  <a:pt x="32446"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308BA97-BACB-42EC-9E58-581F707859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ESTRUCTURA</a:t>
            </a:r>
            <a:endParaRPr b="0" lang="en-US" sz="4400" spc="-1" strike="noStrike">
              <a:solidFill>
                <a:srgbClr val="000000"/>
              </a:solidFill>
              <a:latin typeface="Arial"/>
            </a:endParaRPr>
          </a:p>
        </p:txBody>
      </p:sp>
      <p:pic>
        <p:nvPicPr>
          <p:cNvPr id="127" name="" descr=""/>
          <p:cNvPicPr/>
          <p:nvPr/>
        </p:nvPicPr>
        <p:blipFill>
          <a:blip r:embed="rId2"/>
          <a:stretch/>
        </p:blipFill>
        <p:spPr>
          <a:xfrm>
            <a:off x="0" y="1197000"/>
            <a:ext cx="9144000" cy="5040360"/>
          </a:xfrm>
          <a:prstGeom prst="rect">
            <a:avLst/>
          </a:prstGeom>
          <a:ln w="0">
            <a:noFill/>
          </a:ln>
        </p:spPr>
      </p:pic>
      <p:sp>
        <p:nvSpPr>
          <p:cNvPr id="128" name="">
            <a:hlinkClick r:id="" action="ppaction://hlinkshowjump?jump=previousslide"/>
          </p:cNvPr>
          <p:cNvSpPr/>
          <p:nvPr/>
        </p:nvSpPr>
        <p:spPr>
          <a:xfrm>
            <a:off x="250920" y="6165720"/>
            <a:ext cx="1042920" cy="466920"/>
          </a:xfrm>
          <a:custGeom>
            <a:avLst/>
            <a:gdLst>
              <a:gd name="textAreaLeft" fmla="*/ 30240 w 1042920"/>
              <a:gd name="textAreaRight" fmla="*/ 1012680 w 1042920"/>
              <a:gd name="textAreaTop" fmla="*/ 30240 h 466920"/>
              <a:gd name="textAreaBottom" fmla="*/ 436680 h 466920"/>
            </a:gdLst>
            <a:ahLst/>
            <a:rect l="textAreaLeft" t="textAreaTop" r="textAreaRight" b="textAreaBottom"/>
            <a:pathLst>
              <a:path w="48226" h="21600">
                <a:moveTo>
                  <a:pt x="0" y="0"/>
                </a:moveTo>
                <a:lnTo>
                  <a:pt x="48226" y="0"/>
                </a:lnTo>
                <a:lnTo>
                  <a:pt x="48226" y="21600"/>
                </a:lnTo>
                <a:lnTo>
                  <a:pt x="0" y="21600"/>
                </a:lnTo>
                <a:close/>
              </a:path>
              <a:path fill="lightenLess" w="48226" h="21600">
                <a:moveTo>
                  <a:pt x="0" y="0"/>
                </a:moveTo>
                <a:lnTo>
                  <a:pt x="48226" y="0"/>
                </a:lnTo>
                <a:lnTo>
                  <a:pt x="46826" y="1400"/>
                </a:lnTo>
                <a:lnTo>
                  <a:pt x="1400" y="1400"/>
                </a:lnTo>
                <a:close/>
              </a:path>
              <a:path fill="darken" w="48226" h="21600">
                <a:moveTo>
                  <a:pt x="48226" y="0"/>
                </a:moveTo>
                <a:lnTo>
                  <a:pt x="48226" y="21600"/>
                </a:lnTo>
                <a:lnTo>
                  <a:pt x="46826" y="20200"/>
                </a:lnTo>
                <a:lnTo>
                  <a:pt x="46826" y="1400"/>
                </a:lnTo>
                <a:close/>
              </a:path>
              <a:path fill="darkenLess" w="48226" h="21600">
                <a:moveTo>
                  <a:pt x="48226" y="21600"/>
                </a:moveTo>
                <a:lnTo>
                  <a:pt x="0" y="21600"/>
                </a:lnTo>
                <a:lnTo>
                  <a:pt x="1400" y="20200"/>
                </a:lnTo>
                <a:lnTo>
                  <a:pt x="46826" y="20200"/>
                </a:lnTo>
                <a:close/>
              </a:path>
              <a:path fill="lighten" w="48226" h="21600">
                <a:moveTo>
                  <a:pt x="0" y="21600"/>
                </a:moveTo>
                <a:lnTo>
                  <a:pt x="0" y="0"/>
                </a:lnTo>
                <a:lnTo>
                  <a:pt x="1400" y="1400"/>
                </a:lnTo>
                <a:lnTo>
                  <a:pt x="1400" y="20200"/>
                </a:lnTo>
                <a:close/>
              </a:path>
              <a:path fill="darken" w="48226" h="21600">
                <a:moveTo>
                  <a:pt x="17106" y="10800"/>
                </a:moveTo>
                <a:lnTo>
                  <a:pt x="31119" y="3794"/>
                </a:lnTo>
                <a:lnTo>
                  <a:pt x="3111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a:hlinkClick r:id="" action="ppaction://hlinkshowjump?jump=nextslide"/>
          </p:cNvPr>
          <p:cNvSpPr/>
          <p:nvPr/>
        </p:nvSpPr>
        <p:spPr>
          <a:xfrm>
            <a:off x="7451640" y="6165720"/>
            <a:ext cx="1297080" cy="405000"/>
          </a:xfrm>
          <a:custGeom>
            <a:avLst/>
            <a:gdLst>
              <a:gd name="textAreaLeft" fmla="*/ 25920 w 1297080"/>
              <a:gd name="textAreaRight" fmla="*/ 1271160 w 1297080"/>
              <a:gd name="textAreaTop" fmla="*/ 25920 h 405000"/>
              <a:gd name="textAreaBottom" fmla="*/ 379080 h 405000"/>
            </a:gdLst>
            <a:ahLst/>
            <a:rect l="textAreaLeft" t="textAreaTop" r="textAreaRight" b="textAreaBottom"/>
            <a:pathLst>
              <a:path w="69135" h="21600">
                <a:moveTo>
                  <a:pt x="0" y="0"/>
                </a:moveTo>
                <a:lnTo>
                  <a:pt x="69135" y="0"/>
                </a:lnTo>
                <a:lnTo>
                  <a:pt x="69135" y="21600"/>
                </a:lnTo>
                <a:lnTo>
                  <a:pt x="0" y="21600"/>
                </a:lnTo>
                <a:close/>
              </a:path>
              <a:path fill="lightenLess" w="69135" h="21600">
                <a:moveTo>
                  <a:pt x="0" y="0"/>
                </a:moveTo>
                <a:lnTo>
                  <a:pt x="69135" y="0"/>
                </a:lnTo>
                <a:lnTo>
                  <a:pt x="67735" y="1400"/>
                </a:lnTo>
                <a:lnTo>
                  <a:pt x="1400" y="1400"/>
                </a:lnTo>
                <a:close/>
              </a:path>
              <a:path fill="darken" w="69135" h="21600">
                <a:moveTo>
                  <a:pt x="69135" y="0"/>
                </a:moveTo>
                <a:lnTo>
                  <a:pt x="69135" y="21600"/>
                </a:lnTo>
                <a:lnTo>
                  <a:pt x="67735" y="20200"/>
                </a:lnTo>
                <a:lnTo>
                  <a:pt x="67735" y="1400"/>
                </a:lnTo>
                <a:close/>
              </a:path>
              <a:path fill="darkenLess" w="69135" h="21600">
                <a:moveTo>
                  <a:pt x="69135" y="21600"/>
                </a:moveTo>
                <a:lnTo>
                  <a:pt x="0" y="21600"/>
                </a:lnTo>
                <a:lnTo>
                  <a:pt x="1400" y="20200"/>
                </a:lnTo>
                <a:lnTo>
                  <a:pt x="67735" y="20200"/>
                </a:lnTo>
                <a:close/>
              </a:path>
              <a:path fill="lighten" w="69135" h="21600">
                <a:moveTo>
                  <a:pt x="0" y="21600"/>
                </a:moveTo>
                <a:lnTo>
                  <a:pt x="0" y="0"/>
                </a:lnTo>
                <a:lnTo>
                  <a:pt x="1400" y="1400"/>
                </a:lnTo>
                <a:lnTo>
                  <a:pt x="1400" y="20200"/>
                </a:lnTo>
                <a:close/>
              </a:path>
              <a:path fill="darken" w="69135" h="21600">
                <a:moveTo>
                  <a:pt x="27561" y="3794"/>
                </a:moveTo>
                <a:lnTo>
                  <a:pt x="41574" y="10800"/>
                </a:lnTo>
                <a:lnTo>
                  <a:pt x="275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a:hlinkClick r:id="rId3" action="ppaction://hlinksldjump"/>
          </p:cNvPr>
          <p:cNvSpPr/>
          <p:nvPr/>
        </p:nvSpPr>
        <p:spPr>
          <a:xfrm>
            <a:off x="3780000" y="6165720"/>
            <a:ext cx="1439640" cy="393840"/>
          </a:xfrm>
          <a:custGeom>
            <a:avLst/>
            <a:gdLst>
              <a:gd name="textAreaLeft" fmla="*/ 25200 w 1439640"/>
              <a:gd name="textAreaRight" fmla="*/ 1414440 w 1439640"/>
              <a:gd name="textAreaTop" fmla="*/ 25200 h 393840"/>
              <a:gd name="textAreaBottom" fmla="*/ 368640 h 393840"/>
            </a:gdLst>
            <a:ahLst/>
            <a:rect l="textAreaLeft" t="textAreaTop" r="textAreaRight" b="textAreaBottom"/>
            <a:pathLst>
              <a:path w="78904" h="21600">
                <a:moveTo>
                  <a:pt x="0" y="0"/>
                </a:moveTo>
                <a:lnTo>
                  <a:pt x="78904" y="0"/>
                </a:lnTo>
                <a:lnTo>
                  <a:pt x="78904" y="21600"/>
                </a:lnTo>
                <a:lnTo>
                  <a:pt x="0" y="21600"/>
                </a:lnTo>
                <a:close/>
              </a:path>
              <a:path fill="lightenLess" w="78904" h="21600">
                <a:moveTo>
                  <a:pt x="0" y="0"/>
                </a:moveTo>
                <a:lnTo>
                  <a:pt x="78904" y="0"/>
                </a:lnTo>
                <a:lnTo>
                  <a:pt x="77504" y="1400"/>
                </a:lnTo>
                <a:lnTo>
                  <a:pt x="1400" y="1400"/>
                </a:lnTo>
                <a:close/>
              </a:path>
              <a:path fill="darken" w="78904" h="21600">
                <a:moveTo>
                  <a:pt x="78904" y="0"/>
                </a:moveTo>
                <a:lnTo>
                  <a:pt x="78904" y="21600"/>
                </a:lnTo>
                <a:lnTo>
                  <a:pt x="77504" y="20200"/>
                </a:lnTo>
                <a:lnTo>
                  <a:pt x="77504" y="1400"/>
                </a:lnTo>
                <a:close/>
              </a:path>
              <a:path fill="darkenLess" w="78904" h="21600">
                <a:moveTo>
                  <a:pt x="78904" y="21600"/>
                </a:moveTo>
                <a:lnTo>
                  <a:pt x="0" y="21600"/>
                </a:lnTo>
                <a:lnTo>
                  <a:pt x="1400" y="20200"/>
                </a:lnTo>
                <a:lnTo>
                  <a:pt x="77504" y="20200"/>
                </a:lnTo>
                <a:close/>
              </a:path>
              <a:path fill="lighten" w="78904" h="21600">
                <a:moveTo>
                  <a:pt x="0" y="21600"/>
                </a:moveTo>
                <a:lnTo>
                  <a:pt x="0" y="0"/>
                </a:lnTo>
                <a:lnTo>
                  <a:pt x="1400" y="1400"/>
                </a:lnTo>
                <a:lnTo>
                  <a:pt x="1400" y="20200"/>
                </a:lnTo>
                <a:close/>
              </a:path>
              <a:path fill="darken" w="78904" h="21600">
                <a:moveTo>
                  <a:pt x="32446" y="7493"/>
                </a:moveTo>
                <a:lnTo>
                  <a:pt x="35953" y="7493"/>
                </a:lnTo>
                <a:lnTo>
                  <a:pt x="35953" y="12828"/>
                </a:lnTo>
                <a:cubicBezTo>
                  <a:pt x="35953" y="13751"/>
                  <a:pt x="36754" y="14482"/>
                  <a:pt x="37790" y="14482"/>
                </a:cubicBezTo>
                <a:lnTo>
                  <a:pt x="39452" y="14482"/>
                </a:lnTo>
                <a:cubicBezTo>
                  <a:pt x="40488" y="14482"/>
                  <a:pt x="41289" y="13751"/>
                  <a:pt x="41289" y="12828"/>
                </a:cubicBezTo>
                <a:lnTo>
                  <a:pt x="41289" y="7493"/>
                </a:lnTo>
                <a:lnTo>
                  <a:pt x="39452" y="7493"/>
                </a:lnTo>
                <a:lnTo>
                  <a:pt x="42960" y="3985"/>
                </a:lnTo>
                <a:lnTo>
                  <a:pt x="46633" y="7493"/>
                </a:lnTo>
                <a:lnTo>
                  <a:pt x="44796" y="7493"/>
                </a:lnTo>
                <a:lnTo>
                  <a:pt x="44796" y="12828"/>
                </a:lnTo>
                <a:cubicBezTo>
                  <a:pt x="44796" y="15596"/>
                  <a:pt x="42220" y="18155"/>
                  <a:pt x="39452" y="18155"/>
                </a:cubicBezTo>
                <a:lnTo>
                  <a:pt x="37790" y="18155"/>
                </a:lnTo>
                <a:cubicBezTo>
                  <a:pt x="35022" y="18155"/>
                  <a:pt x="32446" y="15596"/>
                  <a:pt x="32446"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87C8B5D-713F-4744-B0FD-BEBE995063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path path="rect">
            <a:fillToRect l="50000" t="50000" r="50000" b="50000"/>
          </a:path>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FUNCIONAMIENTO</a:t>
            </a:r>
            <a:endParaRPr b="0" lang="en-US" sz="4400" spc="-1" strike="noStrike">
              <a:solidFill>
                <a:srgbClr val="000000"/>
              </a:solidFill>
              <a:latin typeface="Arial"/>
            </a:endParaRPr>
          </a:p>
        </p:txBody>
      </p:sp>
      <p:sp>
        <p:nvSpPr>
          <p:cNvPr id="132" name="PlaceHolder 2"/>
          <p:cNvSpPr>
            <a:spLocks noGrp="1"/>
          </p:cNvSpPr>
          <p:nvPr>
            <p:ph/>
          </p:nvPr>
        </p:nvSpPr>
        <p:spPr>
          <a:xfrm>
            <a:off x="457200" y="1599840"/>
            <a:ext cx="8229600" cy="51418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AMPLIFICADOR</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BAFLE</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DICSMAN</a:t>
            </a:r>
            <a:endParaRPr b="0" lang="en-US" sz="3200" spc="-1" strike="noStrike">
              <a:solidFill>
                <a:srgbClr val="000000"/>
              </a:solidFill>
              <a:latin typeface="Arial"/>
            </a:endParaRPr>
          </a:p>
          <a:p>
            <a:pPr lvl="1" marL="743040" indent="-28584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RODUCEN LA SEÑAL</a:t>
            </a:r>
            <a:endParaRPr b="0" lang="en-US" sz="2800" spc="-1" strike="noStrike">
              <a:solidFill>
                <a:srgbClr val="000000"/>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BOCINA</a:t>
            </a:r>
            <a:endParaRPr b="0" lang="en-US" sz="3200" spc="-1" strike="noStrike">
              <a:solidFill>
                <a:srgbClr val="000000"/>
              </a:solidFill>
              <a:latin typeface="Arial"/>
            </a:endParaRPr>
          </a:p>
          <a:p>
            <a:pPr lvl="1" marL="743040" indent="-28584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S PARA EMITIR SONIDOS</a:t>
            </a:r>
            <a:endParaRPr b="0" lang="en-US" sz="2800" spc="-1" strike="noStrike">
              <a:solidFill>
                <a:srgbClr val="000000"/>
              </a:solidFill>
              <a:latin typeface="Arial"/>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ABLE</a:t>
            </a:r>
            <a:endParaRPr b="0" lang="en-US" sz="3200" spc="-1" strike="noStrike">
              <a:solidFill>
                <a:srgbClr val="000000"/>
              </a:solidFill>
              <a:latin typeface="Arial"/>
            </a:endParaRPr>
          </a:p>
          <a:p>
            <a:pPr lvl="1" marL="743040" indent="-285840">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FUNCIONA COMO CONDUCTOR</a:t>
            </a:r>
            <a:endParaRPr b="0" lang="en-US" sz="2800" spc="-1" strike="noStrike">
              <a:solidFill>
                <a:srgbClr val="000000"/>
              </a:solidFill>
              <a:latin typeface="Arial"/>
            </a:endParaRPr>
          </a:p>
        </p:txBody>
      </p:sp>
      <p:sp>
        <p:nvSpPr>
          <p:cNvPr id="133" name="">
            <a:hlinkClick r:id="" action="ppaction://hlinkshowjump?jump=previousslide"/>
          </p:cNvPr>
          <p:cNvSpPr/>
          <p:nvPr/>
        </p:nvSpPr>
        <p:spPr>
          <a:xfrm>
            <a:off x="250920" y="6165720"/>
            <a:ext cx="1042920" cy="466920"/>
          </a:xfrm>
          <a:custGeom>
            <a:avLst/>
            <a:gdLst>
              <a:gd name="textAreaLeft" fmla="*/ 30240 w 1042920"/>
              <a:gd name="textAreaRight" fmla="*/ 1012680 w 1042920"/>
              <a:gd name="textAreaTop" fmla="*/ 30240 h 466920"/>
              <a:gd name="textAreaBottom" fmla="*/ 436680 h 466920"/>
            </a:gdLst>
            <a:ahLst/>
            <a:rect l="textAreaLeft" t="textAreaTop" r="textAreaRight" b="textAreaBottom"/>
            <a:pathLst>
              <a:path w="48226" h="21600">
                <a:moveTo>
                  <a:pt x="0" y="0"/>
                </a:moveTo>
                <a:lnTo>
                  <a:pt x="48226" y="0"/>
                </a:lnTo>
                <a:lnTo>
                  <a:pt x="48226" y="21600"/>
                </a:lnTo>
                <a:lnTo>
                  <a:pt x="0" y="21600"/>
                </a:lnTo>
                <a:close/>
              </a:path>
              <a:path fill="lightenLess" w="48226" h="21600">
                <a:moveTo>
                  <a:pt x="0" y="0"/>
                </a:moveTo>
                <a:lnTo>
                  <a:pt x="48226" y="0"/>
                </a:lnTo>
                <a:lnTo>
                  <a:pt x="46826" y="1400"/>
                </a:lnTo>
                <a:lnTo>
                  <a:pt x="1400" y="1400"/>
                </a:lnTo>
                <a:close/>
              </a:path>
              <a:path fill="darken" w="48226" h="21600">
                <a:moveTo>
                  <a:pt x="48226" y="0"/>
                </a:moveTo>
                <a:lnTo>
                  <a:pt x="48226" y="21600"/>
                </a:lnTo>
                <a:lnTo>
                  <a:pt x="46826" y="20200"/>
                </a:lnTo>
                <a:lnTo>
                  <a:pt x="46826" y="1400"/>
                </a:lnTo>
                <a:close/>
              </a:path>
              <a:path fill="darkenLess" w="48226" h="21600">
                <a:moveTo>
                  <a:pt x="48226" y="21600"/>
                </a:moveTo>
                <a:lnTo>
                  <a:pt x="0" y="21600"/>
                </a:lnTo>
                <a:lnTo>
                  <a:pt x="1400" y="20200"/>
                </a:lnTo>
                <a:lnTo>
                  <a:pt x="46826" y="20200"/>
                </a:lnTo>
                <a:close/>
              </a:path>
              <a:path fill="lighten" w="48226" h="21600">
                <a:moveTo>
                  <a:pt x="0" y="21600"/>
                </a:moveTo>
                <a:lnTo>
                  <a:pt x="0" y="0"/>
                </a:lnTo>
                <a:lnTo>
                  <a:pt x="1400" y="1400"/>
                </a:lnTo>
                <a:lnTo>
                  <a:pt x="1400" y="20200"/>
                </a:lnTo>
                <a:close/>
              </a:path>
              <a:path fill="darken" w="48226" h="21600">
                <a:moveTo>
                  <a:pt x="17106" y="10800"/>
                </a:moveTo>
                <a:lnTo>
                  <a:pt x="31119" y="3794"/>
                </a:lnTo>
                <a:lnTo>
                  <a:pt x="3111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a:hlinkClick r:id="" action="ppaction://hlinkshowjump?jump=nextslide"/>
          </p:cNvPr>
          <p:cNvSpPr/>
          <p:nvPr/>
        </p:nvSpPr>
        <p:spPr>
          <a:xfrm>
            <a:off x="7451640" y="6165720"/>
            <a:ext cx="1297080" cy="405000"/>
          </a:xfrm>
          <a:custGeom>
            <a:avLst/>
            <a:gdLst>
              <a:gd name="textAreaLeft" fmla="*/ 25920 w 1297080"/>
              <a:gd name="textAreaRight" fmla="*/ 1271160 w 1297080"/>
              <a:gd name="textAreaTop" fmla="*/ 25920 h 405000"/>
              <a:gd name="textAreaBottom" fmla="*/ 379080 h 405000"/>
            </a:gdLst>
            <a:ahLst/>
            <a:rect l="textAreaLeft" t="textAreaTop" r="textAreaRight" b="textAreaBottom"/>
            <a:pathLst>
              <a:path w="69135" h="21600">
                <a:moveTo>
                  <a:pt x="0" y="0"/>
                </a:moveTo>
                <a:lnTo>
                  <a:pt x="69135" y="0"/>
                </a:lnTo>
                <a:lnTo>
                  <a:pt x="69135" y="21600"/>
                </a:lnTo>
                <a:lnTo>
                  <a:pt x="0" y="21600"/>
                </a:lnTo>
                <a:close/>
              </a:path>
              <a:path fill="lightenLess" w="69135" h="21600">
                <a:moveTo>
                  <a:pt x="0" y="0"/>
                </a:moveTo>
                <a:lnTo>
                  <a:pt x="69135" y="0"/>
                </a:lnTo>
                <a:lnTo>
                  <a:pt x="67735" y="1400"/>
                </a:lnTo>
                <a:lnTo>
                  <a:pt x="1400" y="1400"/>
                </a:lnTo>
                <a:close/>
              </a:path>
              <a:path fill="darken" w="69135" h="21600">
                <a:moveTo>
                  <a:pt x="69135" y="0"/>
                </a:moveTo>
                <a:lnTo>
                  <a:pt x="69135" y="21600"/>
                </a:lnTo>
                <a:lnTo>
                  <a:pt x="67735" y="20200"/>
                </a:lnTo>
                <a:lnTo>
                  <a:pt x="67735" y="1400"/>
                </a:lnTo>
                <a:close/>
              </a:path>
              <a:path fill="darkenLess" w="69135" h="21600">
                <a:moveTo>
                  <a:pt x="69135" y="21600"/>
                </a:moveTo>
                <a:lnTo>
                  <a:pt x="0" y="21600"/>
                </a:lnTo>
                <a:lnTo>
                  <a:pt x="1400" y="20200"/>
                </a:lnTo>
                <a:lnTo>
                  <a:pt x="67735" y="20200"/>
                </a:lnTo>
                <a:close/>
              </a:path>
              <a:path fill="lighten" w="69135" h="21600">
                <a:moveTo>
                  <a:pt x="0" y="21600"/>
                </a:moveTo>
                <a:lnTo>
                  <a:pt x="0" y="0"/>
                </a:lnTo>
                <a:lnTo>
                  <a:pt x="1400" y="1400"/>
                </a:lnTo>
                <a:lnTo>
                  <a:pt x="1400" y="20200"/>
                </a:lnTo>
                <a:close/>
              </a:path>
              <a:path fill="darken" w="69135" h="21600">
                <a:moveTo>
                  <a:pt x="27561" y="3794"/>
                </a:moveTo>
                <a:lnTo>
                  <a:pt x="41574" y="10800"/>
                </a:lnTo>
                <a:lnTo>
                  <a:pt x="275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a:hlinkClick r:id="rId9" action="ppaction://hlinksldjump"/>
          </p:cNvPr>
          <p:cNvSpPr/>
          <p:nvPr/>
        </p:nvSpPr>
        <p:spPr>
          <a:xfrm>
            <a:off x="3780000" y="6165720"/>
            <a:ext cx="1439640" cy="393840"/>
          </a:xfrm>
          <a:custGeom>
            <a:avLst/>
            <a:gdLst>
              <a:gd name="textAreaLeft" fmla="*/ 25200 w 1439640"/>
              <a:gd name="textAreaRight" fmla="*/ 1414440 w 1439640"/>
              <a:gd name="textAreaTop" fmla="*/ 25200 h 393840"/>
              <a:gd name="textAreaBottom" fmla="*/ 368640 h 393840"/>
            </a:gdLst>
            <a:ahLst/>
            <a:rect l="textAreaLeft" t="textAreaTop" r="textAreaRight" b="textAreaBottom"/>
            <a:pathLst>
              <a:path w="78904" h="21600">
                <a:moveTo>
                  <a:pt x="0" y="0"/>
                </a:moveTo>
                <a:lnTo>
                  <a:pt x="78904" y="0"/>
                </a:lnTo>
                <a:lnTo>
                  <a:pt x="78904" y="21600"/>
                </a:lnTo>
                <a:lnTo>
                  <a:pt x="0" y="21600"/>
                </a:lnTo>
                <a:close/>
              </a:path>
              <a:path fill="lightenLess" w="78904" h="21600">
                <a:moveTo>
                  <a:pt x="0" y="0"/>
                </a:moveTo>
                <a:lnTo>
                  <a:pt x="78904" y="0"/>
                </a:lnTo>
                <a:lnTo>
                  <a:pt x="77504" y="1400"/>
                </a:lnTo>
                <a:lnTo>
                  <a:pt x="1400" y="1400"/>
                </a:lnTo>
                <a:close/>
              </a:path>
              <a:path fill="darken" w="78904" h="21600">
                <a:moveTo>
                  <a:pt x="78904" y="0"/>
                </a:moveTo>
                <a:lnTo>
                  <a:pt x="78904" y="21600"/>
                </a:lnTo>
                <a:lnTo>
                  <a:pt x="77504" y="20200"/>
                </a:lnTo>
                <a:lnTo>
                  <a:pt x="77504" y="1400"/>
                </a:lnTo>
                <a:close/>
              </a:path>
              <a:path fill="darkenLess" w="78904" h="21600">
                <a:moveTo>
                  <a:pt x="78904" y="21600"/>
                </a:moveTo>
                <a:lnTo>
                  <a:pt x="0" y="21600"/>
                </a:lnTo>
                <a:lnTo>
                  <a:pt x="1400" y="20200"/>
                </a:lnTo>
                <a:lnTo>
                  <a:pt x="77504" y="20200"/>
                </a:lnTo>
                <a:close/>
              </a:path>
              <a:path fill="lighten" w="78904" h="21600">
                <a:moveTo>
                  <a:pt x="0" y="21600"/>
                </a:moveTo>
                <a:lnTo>
                  <a:pt x="0" y="0"/>
                </a:lnTo>
                <a:lnTo>
                  <a:pt x="1400" y="1400"/>
                </a:lnTo>
                <a:lnTo>
                  <a:pt x="1400" y="20200"/>
                </a:lnTo>
                <a:close/>
              </a:path>
              <a:path fill="darken" w="78904" h="21600">
                <a:moveTo>
                  <a:pt x="32446" y="7493"/>
                </a:moveTo>
                <a:lnTo>
                  <a:pt x="35953" y="7493"/>
                </a:lnTo>
                <a:lnTo>
                  <a:pt x="35953" y="12828"/>
                </a:lnTo>
                <a:cubicBezTo>
                  <a:pt x="35953" y="13751"/>
                  <a:pt x="36754" y="14482"/>
                  <a:pt x="37790" y="14482"/>
                </a:cubicBezTo>
                <a:lnTo>
                  <a:pt x="39452" y="14482"/>
                </a:lnTo>
                <a:cubicBezTo>
                  <a:pt x="40488" y="14482"/>
                  <a:pt x="41289" y="13751"/>
                  <a:pt x="41289" y="12828"/>
                </a:cubicBezTo>
                <a:lnTo>
                  <a:pt x="41289" y="7493"/>
                </a:lnTo>
                <a:lnTo>
                  <a:pt x="39452" y="7493"/>
                </a:lnTo>
                <a:lnTo>
                  <a:pt x="42960" y="3985"/>
                </a:lnTo>
                <a:lnTo>
                  <a:pt x="46633" y="7493"/>
                </a:lnTo>
                <a:lnTo>
                  <a:pt x="44796" y="7493"/>
                </a:lnTo>
                <a:lnTo>
                  <a:pt x="44796" y="12828"/>
                </a:lnTo>
                <a:cubicBezTo>
                  <a:pt x="44796" y="15596"/>
                  <a:pt x="42220" y="18155"/>
                  <a:pt x="39452" y="18155"/>
                </a:cubicBezTo>
                <a:lnTo>
                  <a:pt x="37790" y="18155"/>
                </a:lnTo>
                <a:cubicBezTo>
                  <a:pt x="35022" y="18155"/>
                  <a:pt x="32446" y="15596"/>
                  <a:pt x="32446"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6EC7AF5-124F-4EAF-A6E8-D6F8B6D610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4360" y="14126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5f5f5f"/>
                </a:solidFill>
                <a:latin typeface="Copperplate Gothic Bold"/>
              </a:rPr>
              <a:t>PROYECTO</a:t>
            </a:r>
            <a:endParaRPr b="0" lang="en-US" sz="4400" spc="-1" strike="noStrike">
              <a:solidFill>
                <a:srgbClr val="000000"/>
              </a:solidFill>
              <a:latin typeface="Arial"/>
            </a:endParaRPr>
          </a:p>
        </p:txBody>
      </p:sp>
      <p:sp>
        <p:nvSpPr>
          <p:cNvPr id="45" name="PlaceHolder 2"/>
          <p:cNvSpPr>
            <a:spLocks noGrp="1"/>
          </p:cNvSpPr>
          <p:nvPr>
            <p:ph type="subTitle"/>
          </p:nvPr>
        </p:nvSpPr>
        <p:spPr>
          <a:xfrm>
            <a:off x="1403280" y="321264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5f5f5f"/>
                </a:solidFill>
                <a:latin typeface="Georgia"/>
              </a:rPr>
              <a:t>“</a:t>
            </a:r>
            <a:r>
              <a:rPr b="1" lang="es-MX" sz="3600" spc="-1" strike="noStrike">
                <a:solidFill>
                  <a:srgbClr val="5f5f5f"/>
                </a:solidFill>
                <a:latin typeface="Georgia"/>
              </a:rPr>
              <a:t>SONORIZACION</a:t>
            </a:r>
            <a:r>
              <a:rPr b="1" lang="es-MX" sz="3200" spc="-1" strike="noStrike">
                <a:solidFill>
                  <a:srgbClr val="5f5f5f"/>
                </a:solidFill>
                <a:latin typeface="Georgia"/>
              </a:rPr>
              <a:t>”</a:t>
            </a:r>
            <a:endParaRPr b="0" lang="en-US" sz="3200" spc="-1" strike="noStrike">
              <a:solidFill>
                <a:srgbClr val="000000"/>
              </a:solidFill>
              <a:latin typeface="Arial"/>
            </a:endParaRPr>
          </a:p>
        </p:txBody>
      </p:sp>
      <p:sp>
        <p:nvSpPr>
          <p:cNvPr id="46" name="">
            <a:hlinkClick r:id="" action="ppaction://hlinkshowjump?jump=previousslide"/>
          </p:cNvPr>
          <p:cNvSpPr/>
          <p:nvPr/>
        </p:nvSpPr>
        <p:spPr>
          <a:xfrm>
            <a:off x="250920" y="6165720"/>
            <a:ext cx="1042920" cy="466920"/>
          </a:xfrm>
          <a:custGeom>
            <a:avLst/>
            <a:gdLst>
              <a:gd name="textAreaLeft" fmla="*/ 30240 w 1042920"/>
              <a:gd name="textAreaRight" fmla="*/ 1012680 w 1042920"/>
              <a:gd name="textAreaTop" fmla="*/ 30240 h 466920"/>
              <a:gd name="textAreaBottom" fmla="*/ 436680 h 466920"/>
            </a:gdLst>
            <a:ahLst/>
            <a:rect l="textAreaLeft" t="textAreaTop" r="textAreaRight" b="textAreaBottom"/>
            <a:pathLst>
              <a:path w="48226" h="21600">
                <a:moveTo>
                  <a:pt x="0" y="0"/>
                </a:moveTo>
                <a:lnTo>
                  <a:pt x="48226" y="0"/>
                </a:lnTo>
                <a:lnTo>
                  <a:pt x="48226" y="21600"/>
                </a:lnTo>
                <a:lnTo>
                  <a:pt x="0" y="21600"/>
                </a:lnTo>
                <a:close/>
              </a:path>
              <a:path fill="lightenLess" w="48226" h="21600">
                <a:moveTo>
                  <a:pt x="0" y="0"/>
                </a:moveTo>
                <a:lnTo>
                  <a:pt x="48226" y="0"/>
                </a:lnTo>
                <a:lnTo>
                  <a:pt x="46826" y="1400"/>
                </a:lnTo>
                <a:lnTo>
                  <a:pt x="1400" y="1400"/>
                </a:lnTo>
                <a:close/>
              </a:path>
              <a:path fill="darken" w="48226" h="21600">
                <a:moveTo>
                  <a:pt x="48226" y="0"/>
                </a:moveTo>
                <a:lnTo>
                  <a:pt x="48226" y="21600"/>
                </a:lnTo>
                <a:lnTo>
                  <a:pt x="46826" y="20200"/>
                </a:lnTo>
                <a:lnTo>
                  <a:pt x="46826" y="1400"/>
                </a:lnTo>
                <a:close/>
              </a:path>
              <a:path fill="darkenLess" w="48226" h="21600">
                <a:moveTo>
                  <a:pt x="48226" y="21600"/>
                </a:moveTo>
                <a:lnTo>
                  <a:pt x="0" y="21600"/>
                </a:lnTo>
                <a:lnTo>
                  <a:pt x="1400" y="20200"/>
                </a:lnTo>
                <a:lnTo>
                  <a:pt x="46826" y="20200"/>
                </a:lnTo>
                <a:close/>
              </a:path>
              <a:path fill="lighten" w="48226" h="21600">
                <a:moveTo>
                  <a:pt x="0" y="21600"/>
                </a:moveTo>
                <a:lnTo>
                  <a:pt x="0" y="0"/>
                </a:lnTo>
                <a:lnTo>
                  <a:pt x="1400" y="1400"/>
                </a:lnTo>
                <a:lnTo>
                  <a:pt x="1400" y="20200"/>
                </a:lnTo>
                <a:close/>
              </a:path>
              <a:path fill="darken" w="48226" h="21600">
                <a:moveTo>
                  <a:pt x="17106" y="10800"/>
                </a:moveTo>
                <a:lnTo>
                  <a:pt x="31119" y="3794"/>
                </a:lnTo>
                <a:lnTo>
                  <a:pt x="3111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a:hlinkClick r:id="" action="ppaction://hlinkshowjump?jump=nextslide"/>
          </p:cNvPr>
          <p:cNvSpPr/>
          <p:nvPr/>
        </p:nvSpPr>
        <p:spPr>
          <a:xfrm>
            <a:off x="7451640" y="6165720"/>
            <a:ext cx="1297080" cy="405000"/>
          </a:xfrm>
          <a:custGeom>
            <a:avLst/>
            <a:gdLst>
              <a:gd name="textAreaLeft" fmla="*/ 25920 w 1297080"/>
              <a:gd name="textAreaRight" fmla="*/ 1271160 w 1297080"/>
              <a:gd name="textAreaTop" fmla="*/ 25920 h 405000"/>
              <a:gd name="textAreaBottom" fmla="*/ 379080 h 405000"/>
            </a:gdLst>
            <a:ahLst/>
            <a:rect l="textAreaLeft" t="textAreaTop" r="textAreaRight" b="textAreaBottom"/>
            <a:pathLst>
              <a:path w="69135" h="21600">
                <a:moveTo>
                  <a:pt x="0" y="0"/>
                </a:moveTo>
                <a:lnTo>
                  <a:pt x="69135" y="0"/>
                </a:lnTo>
                <a:lnTo>
                  <a:pt x="69135" y="21600"/>
                </a:lnTo>
                <a:lnTo>
                  <a:pt x="0" y="21600"/>
                </a:lnTo>
                <a:close/>
              </a:path>
              <a:path fill="lightenLess" w="69135" h="21600">
                <a:moveTo>
                  <a:pt x="0" y="0"/>
                </a:moveTo>
                <a:lnTo>
                  <a:pt x="69135" y="0"/>
                </a:lnTo>
                <a:lnTo>
                  <a:pt x="67735" y="1400"/>
                </a:lnTo>
                <a:lnTo>
                  <a:pt x="1400" y="1400"/>
                </a:lnTo>
                <a:close/>
              </a:path>
              <a:path fill="darken" w="69135" h="21600">
                <a:moveTo>
                  <a:pt x="69135" y="0"/>
                </a:moveTo>
                <a:lnTo>
                  <a:pt x="69135" y="21600"/>
                </a:lnTo>
                <a:lnTo>
                  <a:pt x="67735" y="20200"/>
                </a:lnTo>
                <a:lnTo>
                  <a:pt x="67735" y="1400"/>
                </a:lnTo>
                <a:close/>
              </a:path>
              <a:path fill="darkenLess" w="69135" h="21600">
                <a:moveTo>
                  <a:pt x="69135" y="21600"/>
                </a:moveTo>
                <a:lnTo>
                  <a:pt x="0" y="21600"/>
                </a:lnTo>
                <a:lnTo>
                  <a:pt x="1400" y="20200"/>
                </a:lnTo>
                <a:lnTo>
                  <a:pt x="67735" y="20200"/>
                </a:lnTo>
                <a:close/>
              </a:path>
              <a:path fill="lighten" w="69135" h="21600">
                <a:moveTo>
                  <a:pt x="0" y="21600"/>
                </a:moveTo>
                <a:lnTo>
                  <a:pt x="0" y="0"/>
                </a:lnTo>
                <a:lnTo>
                  <a:pt x="1400" y="1400"/>
                </a:lnTo>
                <a:lnTo>
                  <a:pt x="1400" y="20200"/>
                </a:lnTo>
                <a:close/>
              </a:path>
              <a:path fill="darken" w="69135" h="21600">
                <a:moveTo>
                  <a:pt x="27561" y="3794"/>
                </a:moveTo>
                <a:lnTo>
                  <a:pt x="41574" y="10800"/>
                </a:lnTo>
                <a:lnTo>
                  <a:pt x="275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53B9F53-9877-406C-BFBC-3FC334BA55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FUNCIONALIDAD</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FUE CREADO PARA LA SONORIZACIN DE UNA FIESTA UTIZANDO:</a:t>
            </a:r>
            <a:endParaRPr b="0" lang="en-US" sz="3200" spc="-1" strike="noStrike">
              <a:solidFill>
                <a:srgbClr val="000000"/>
              </a:solidFill>
              <a:latin typeface="Arial"/>
            </a:endParaRPr>
          </a:p>
          <a:p>
            <a:pPr lvl="1" marL="743040" indent="-2858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MPLIFICADOR</a:t>
            </a:r>
            <a:endParaRPr b="0" lang="en-US" sz="2800" spc="-1" strike="noStrike">
              <a:solidFill>
                <a:srgbClr val="000000"/>
              </a:solidFill>
              <a:latin typeface="Arial"/>
            </a:endParaRPr>
          </a:p>
          <a:p>
            <a:pPr lvl="1" marL="743040" indent="-28584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BAFLES</a:t>
            </a:r>
            <a:endParaRPr b="0" lang="en-US" sz="2800" spc="-1" strike="noStrike">
              <a:solidFill>
                <a:srgbClr val="000000"/>
              </a:solidFill>
              <a:latin typeface="Arial"/>
            </a:endParaRPr>
          </a:p>
          <a:p>
            <a:pPr lvl="1" marL="743040" indent="-28584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ICSMAN</a:t>
            </a:r>
            <a:endParaRPr b="0" lang="en-US" sz="2800" spc="-1" strike="noStrike">
              <a:solidFill>
                <a:srgbClr val="000000"/>
              </a:solidFill>
              <a:latin typeface="Arial"/>
            </a:endParaRPr>
          </a:p>
        </p:txBody>
      </p:sp>
      <p:sp>
        <p:nvSpPr>
          <p:cNvPr id="138" name="">
            <a:hlinkClick r:id="" action="ppaction://hlinkshowjump?jump=previousslide"/>
          </p:cNvPr>
          <p:cNvSpPr/>
          <p:nvPr/>
        </p:nvSpPr>
        <p:spPr>
          <a:xfrm>
            <a:off x="250920" y="6165720"/>
            <a:ext cx="1042920" cy="466920"/>
          </a:xfrm>
          <a:custGeom>
            <a:avLst/>
            <a:gdLst>
              <a:gd name="textAreaLeft" fmla="*/ 30240 w 1042920"/>
              <a:gd name="textAreaRight" fmla="*/ 1012680 w 1042920"/>
              <a:gd name="textAreaTop" fmla="*/ 30240 h 466920"/>
              <a:gd name="textAreaBottom" fmla="*/ 436680 h 466920"/>
            </a:gdLst>
            <a:ahLst/>
            <a:rect l="textAreaLeft" t="textAreaTop" r="textAreaRight" b="textAreaBottom"/>
            <a:pathLst>
              <a:path w="48226" h="21600">
                <a:moveTo>
                  <a:pt x="0" y="0"/>
                </a:moveTo>
                <a:lnTo>
                  <a:pt x="48226" y="0"/>
                </a:lnTo>
                <a:lnTo>
                  <a:pt x="48226" y="21600"/>
                </a:lnTo>
                <a:lnTo>
                  <a:pt x="0" y="21600"/>
                </a:lnTo>
                <a:close/>
              </a:path>
              <a:path fill="lightenLess" w="48226" h="21600">
                <a:moveTo>
                  <a:pt x="0" y="0"/>
                </a:moveTo>
                <a:lnTo>
                  <a:pt x="48226" y="0"/>
                </a:lnTo>
                <a:lnTo>
                  <a:pt x="46826" y="1400"/>
                </a:lnTo>
                <a:lnTo>
                  <a:pt x="1400" y="1400"/>
                </a:lnTo>
                <a:close/>
              </a:path>
              <a:path fill="darken" w="48226" h="21600">
                <a:moveTo>
                  <a:pt x="48226" y="0"/>
                </a:moveTo>
                <a:lnTo>
                  <a:pt x="48226" y="21600"/>
                </a:lnTo>
                <a:lnTo>
                  <a:pt x="46826" y="20200"/>
                </a:lnTo>
                <a:lnTo>
                  <a:pt x="46826" y="1400"/>
                </a:lnTo>
                <a:close/>
              </a:path>
              <a:path fill="darkenLess" w="48226" h="21600">
                <a:moveTo>
                  <a:pt x="48226" y="21600"/>
                </a:moveTo>
                <a:lnTo>
                  <a:pt x="0" y="21600"/>
                </a:lnTo>
                <a:lnTo>
                  <a:pt x="1400" y="20200"/>
                </a:lnTo>
                <a:lnTo>
                  <a:pt x="46826" y="20200"/>
                </a:lnTo>
                <a:close/>
              </a:path>
              <a:path fill="lighten" w="48226" h="21600">
                <a:moveTo>
                  <a:pt x="0" y="21600"/>
                </a:moveTo>
                <a:lnTo>
                  <a:pt x="0" y="0"/>
                </a:lnTo>
                <a:lnTo>
                  <a:pt x="1400" y="1400"/>
                </a:lnTo>
                <a:lnTo>
                  <a:pt x="1400" y="20200"/>
                </a:lnTo>
                <a:close/>
              </a:path>
              <a:path fill="darken" w="48226" h="21600">
                <a:moveTo>
                  <a:pt x="17106" y="10800"/>
                </a:moveTo>
                <a:lnTo>
                  <a:pt x="31119" y="3794"/>
                </a:lnTo>
                <a:lnTo>
                  <a:pt x="3111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a:hlinkClick r:id="" action="ppaction://hlinkshowjump?jump=nextslide"/>
          </p:cNvPr>
          <p:cNvSpPr/>
          <p:nvPr/>
        </p:nvSpPr>
        <p:spPr>
          <a:xfrm>
            <a:off x="7451640" y="6165720"/>
            <a:ext cx="1297080" cy="405000"/>
          </a:xfrm>
          <a:custGeom>
            <a:avLst/>
            <a:gdLst>
              <a:gd name="textAreaLeft" fmla="*/ 25920 w 1297080"/>
              <a:gd name="textAreaRight" fmla="*/ 1271160 w 1297080"/>
              <a:gd name="textAreaTop" fmla="*/ 25920 h 405000"/>
              <a:gd name="textAreaBottom" fmla="*/ 379080 h 405000"/>
            </a:gdLst>
            <a:ahLst/>
            <a:rect l="textAreaLeft" t="textAreaTop" r="textAreaRight" b="textAreaBottom"/>
            <a:pathLst>
              <a:path w="69135" h="21600">
                <a:moveTo>
                  <a:pt x="0" y="0"/>
                </a:moveTo>
                <a:lnTo>
                  <a:pt x="69135" y="0"/>
                </a:lnTo>
                <a:lnTo>
                  <a:pt x="69135" y="21600"/>
                </a:lnTo>
                <a:lnTo>
                  <a:pt x="0" y="21600"/>
                </a:lnTo>
                <a:close/>
              </a:path>
              <a:path fill="lightenLess" w="69135" h="21600">
                <a:moveTo>
                  <a:pt x="0" y="0"/>
                </a:moveTo>
                <a:lnTo>
                  <a:pt x="69135" y="0"/>
                </a:lnTo>
                <a:lnTo>
                  <a:pt x="67735" y="1400"/>
                </a:lnTo>
                <a:lnTo>
                  <a:pt x="1400" y="1400"/>
                </a:lnTo>
                <a:close/>
              </a:path>
              <a:path fill="darken" w="69135" h="21600">
                <a:moveTo>
                  <a:pt x="69135" y="0"/>
                </a:moveTo>
                <a:lnTo>
                  <a:pt x="69135" y="21600"/>
                </a:lnTo>
                <a:lnTo>
                  <a:pt x="67735" y="20200"/>
                </a:lnTo>
                <a:lnTo>
                  <a:pt x="67735" y="1400"/>
                </a:lnTo>
                <a:close/>
              </a:path>
              <a:path fill="darkenLess" w="69135" h="21600">
                <a:moveTo>
                  <a:pt x="69135" y="21600"/>
                </a:moveTo>
                <a:lnTo>
                  <a:pt x="0" y="21600"/>
                </a:lnTo>
                <a:lnTo>
                  <a:pt x="1400" y="20200"/>
                </a:lnTo>
                <a:lnTo>
                  <a:pt x="67735" y="20200"/>
                </a:lnTo>
                <a:close/>
              </a:path>
              <a:path fill="lighten" w="69135" h="21600">
                <a:moveTo>
                  <a:pt x="0" y="21600"/>
                </a:moveTo>
                <a:lnTo>
                  <a:pt x="0" y="0"/>
                </a:lnTo>
                <a:lnTo>
                  <a:pt x="1400" y="1400"/>
                </a:lnTo>
                <a:lnTo>
                  <a:pt x="1400" y="20200"/>
                </a:lnTo>
                <a:close/>
              </a:path>
              <a:path fill="darken" w="69135" h="21600">
                <a:moveTo>
                  <a:pt x="27561" y="3794"/>
                </a:moveTo>
                <a:lnTo>
                  <a:pt x="41574" y="10800"/>
                </a:lnTo>
                <a:lnTo>
                  <a:pt x="275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a:hlinkClick r:id="rId6" action="ppaction://hlinksldjump"/>
          </p:cNvPr>
          <p:cNvSpPr/>
          <p:nvPr/>
        </p:nvSpPr>
        <p:spPr>
          <a:xfrm>
            <a:off x="3780000" y="6165720"/>
            <a:ext cx="1439640" cy="393840"/>
          </a:xfrm>
          <a:custGeom>
            <a:avLst/>
            <a:gdLst>
              <a:gd name="textAreaLeft" fmla="*/ 25200 w 1439640"/>
              <a:gd name="textAreaRight" fmla="*/ 1414440 w 1439640"/>
              <a:gd name="textAreaTop" fmla="*/ 25200 h 393840"/>
              <a:gd name="textAreaBottom" fmla="*/ 368640 h 393840"/>
            </a:gdLst>
            <a:ahLst/>
            <a:rect l="textAreaLeft" t="textAreaTop" r="textAreaRight" b="textAreaBottom"/>
            <a:pathLst>
              <a:path w="78904" h="21600">
                <a:moveTo>
                  <a:pt x="0" y="0"/>
                </a:moveTo>
                <a:lnTo>
                  <a:pt x="78904" y="0"/>
                </a:lnTo>
                <a:lnTo>
                  <a:pt x="78904" y="21600"/>
                </a:lnTo>
                <a:lnTo>
                  <a:pt x="0" y="21600"/>
                </a:lnTo>
                <a:close/>
              </a:path>
              <a:path fill="lightenLess" w="78904" h="21600">
                <a:moveTo>
                  <a:pt x="0" y="0"/>
                </a:moveTo>
                <a:lnTo>
                  <a:pt x="78904" y="0"/>
                </a:lnTo>
                <a:lnTo>
                  <a:pt x="77504" y="1400"/>
                </a:lnTo>
                <a:lnTo>
                  <a:pt x="1400" y="1400"/>
                </a:lnTo>
                <a:close/>
              </a:path>
              <a:path fill="darken" w="78904" h="21600">
                <a:moveTo>
                  <a:pt x="78904" y="0"/>
                </a:moveTo>
                <a:lnTo>
                  <a:pt x="78904" y="21600"/>
                </a:lnTo>
                <a:lnTo>
                  <a:pt x="77504" y="20200"/>
                </a:lnTo>
                <a:lnTo>
                  <a:pt x="77504" y="1400"/>
                </a:lnTo>
                <a:close/>
              </a:path>
              <a:path fill="darkenLess" w="78904" h="21600">
                <a:moveTo>
                  <a:pt x="78904" y="21600"/>
                </a:moveTo>
                <a:lnTo>
                  <a:pt x="0" y="21600"/>
                </a:lnTo>
                <a:lnTo>
                  <a:pt x="1400" y="20200"/>
                </a:lnTo>
                <a:lnTo>
                  <a:pt x="77504" y="20200"/>
                </a:lnTo>
                <a:close/>
              </a:path>
              <a:path fill="lighten" w="78904" h="21600">
                <a:moveTo>
                  <a:pt x="0" y="21600"/>
                </a:moveTo>
                <a:lnTo>
                  <a:pt x="0" y="0"/>
                </a:lnTo>
                <a:lnTo>
                  <a:pt x="1400" y="1400"/>
                </a:lnTo>
                <a:lnTo>
                  <a:pt x="1400" y="20200"/>
                </a:lnTo>
                <a:close/>
              </a:path>
              <a:path fill="darken" w="78904" h="21600">
                <a:moveTo>
                  <a:pt x="32446" y="7493"/>
                </a:moveTo>
                <a:lnTo>
                  <a:pt x="35953" y="7493"/>
                </a:lnTo>
                <a:lnTo>
                  <a:pt x="35953" y="12828"/>
                </a:lnTo>
                <a:cubicBezTo>
                  <a:pt x="35953" y="13751"/>
                  <a:pt x="36754" y="14482"/>
                  <a:pt x="37790" y="14482"/>
                </a:cubicBezTo>
                <a:lnTo>
                  <a:pt x="39452" y="14482"/>
                </a:lnTo>
                <a:cubicBezTo>
                  <a:pt x="40488" y="14482"/>
                  <a:pt x="41289" y="13751"/>
                  <a:pt x="41289" y="12828"/>
                </a:cubicBezTo>
                <a:lnTo>
                  <a:pt x="41289" y="7493"/>
                </a:lnTo>
                <a:lnTo>
                  <a:pt x="39452" y="7493"/>
                </a:lnTo>
                <a:lnTo>
                  <a:pt x="42960" y="3985"/>
                </a:lnTo>
                <a:lnTo>
                  <a:pt x="46633" y="7493"/>
                </a:lnTo>
                <a:lnTo>
                  <a:pt x="44796" y="7493"/>
                </a:lnTo>
                <a:lnTo>
                  <a:pt x="44796" y="12828"/>
                </a:lnTo>
                <a:cubicBezTo>
                  <a:pt x="44796" y="15596"/>
                  <a:pt x="42220" y="18155"/>
                  <a:pt x="39452" y="18155"/>
                </a:cubicBezTo>
                <a:lnTo>
                  <a:pt x="37790" y="18155"/>
                </a:lnTo>
                <a:cubicBezTo>
                  <a:pt x="35022" y="18155"/>
                  <a:pt x="32446" y="15596"/>
                  <a:pt x="32446"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7B7CBA3-F985-4779-954C-22F4B0A646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RESULTADOS</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I SE SONORIZO Y SE OYO FUERTE EN EL TALLER DE ELECTRONICA</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NO BAILARON PERO FUE POR QUE LES DABA PENA</a:t>
            </a:r>
            <a:endParaRPr b="0" lang="en-US" sz="3200" spc="-1" strike="noStrike">
              <a:solidFill>
                <a:srgbClr val="000000"/>
              </a:solidFill>
              <a:latin typeface="Arial"/>
            </a:endParaRPr>
          </a:p>
        </p:txBody>
      </p:sp>
      <p:sp>
        <p:nvSpPr>
          <p:cNvPr id="143" name="">
            <a:hlinkClick r:id="" action="ppaction://hlinkshowjump?jump=previousslide"/>
          </p:cNvPr>
          <p:cNvSpPr/>
          <p:nvPr/>
        </p:nvSpPr>
        <p:spPr>
          <a:xfrm>
            <a:off x="250920" y="6165720"/>
            <a:ext cx="1042920" cy="466920"/>
          </a:xfrm>
          <a:custGeom>
            <a:avLst/>
            <a:gdLst>
              <a:gd name="textAreaLeft" fmla="*/ 30240 w 1042920"/>
              <a:gd name="textAreaRight" fmla="*/ 1012680 w 1042920"/>
              <a:gd name="textAreaTop" fmla="*/ 30240 h 466920"/>
              <a:gd name="textAreaBottom" fmla="*/ 436680 h 466920"/>
            </a:gdLst>
            <a:ahLst/>
            <a:rect l="textAreaLeft" t="textAreaTop" r="textAreaRight" b="textAreaBottom"/>
            <a:pathLst>
              <a:path w="48226" h="21600">
                <a:moveTo>
                  <a:pt x="0" y="0"/>
                </a:moveTo>
                <a:lnTo>
                  <a:pt x="48226" y="0"/>
                </a:lnTo>
                <a:lnTo>
                  <a:pt x="48226" y="21600"/>
                </a:lnTo>
                <a:lnTo>
                  <a:pt x="0" y="21600"/>
                </a:lnTo>
                <a:close/>
              </a:path>
              <a:path fill="lightenLess" w="48226" h="21600">
                <a:moveTo>
                  <a:pt x="0" y="0"/>
                </a:moveTo>
                <a:lnTo>
                  <a:pt x="48226" y="0"/>
                </a:lnTo>
                <a:lnTo>
                  <a:pt x="46826" y="1400"/>
                </a:lnTo>
                <a:lnTo>
                  <a:pt x="1400" y="1400"/>
                </a:lnTo>
                <a:close/>
              </a:path>
              <a:path fill="darken" w="48226" h="21600">
                <a:moveTo>
                  <a:pt x="48226" y="0"/>
                </a:moveTo>
                <a:lnTo>
                  <a:pt x="48226" y="21600"/>
                </a:lnTo>
                <a:lnTo>
                  <a:pt x="46826" y="20200"/>
                </a:lnTo>
                <a:lnTo>
                  <a:pt x="46826" y="1400"/>
                </a:lnTo>
                <a:close/>
              </a:path>
              <a:path fill="darkenLess" w="48226" h="21600">
                <a:moveTo>
                  <a:pt x="48226" y="21600"/>
                </a:moveTo>
                <a:lnTo>
                  <a:pt x="0" y="21600"/>
                </a:lnTo>
                <a:lnTo>
                  <a:pt x="1400" y="20200"/>
                </a:lnTo>
                <a:lnTo>
                  <a:pt x="46826" y="20200"/>
                </a:lnTo>
                <a:close/>
              </a:path>
              <a:path fill="lighten" w="48226" h="21600">
                <a:moveTo>
                  <a:pt x="0" y="21600"/>
                </a:moveTo>
                <a:lnTo>
                  <a:pt x="0" y="0"/>
                </a:lnTo>
                <a:lnTo>
                  <a:pt x="1400" y="1400"/>
                </a:lnTo>
                <a:lnTo>
                  <a:pt x="1400" y="20200"/>
                </a:lnTo>
                <a:close/>
              </a:path>
              <a:path fill="darken" w="48226" h="21600">
                <a:moveTo>
                  <a:pt x="17106" y="10800"/>
                </a:moveTo>
                <a:lnTo>
                  <a:pt x="31119" y="3794"/>
                </a:lnTo>
                <a:lnTo>
                  <a:pt x="3111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a:hlinkClick r:id="" action="ppaction://hlinkshowjump?jump=nextslide"/>
          </p:cNvPr>
          <p:cNvSpPr/>
          <p:nvPr/>
        </p:nvSpPr>
        <p:spPr>
          <a:xfrm>
            <a:off x="7451640" y="6165720"/>
            <a:ext cx="1297080" cy="405000"/>
          </a:xfrm>
          <a:custGeom>
            <a:avLst/>
            <a:gdLst>
              <a:gd name="textAreaLeft" fmla="*/ 25920 w 1297080"/>
              <a:gd name="textAreaRight" fmla="*/ 1271160 w 1297080"/>
              <a:gd name="textAreaTop" fmla="*/ 25920 h 405000"/>
              <a:gd name="textAreaBottom" fmla="*/ 379080 h 405000"/>
            </a:gdLst>
            <a:ahLst/>
            <a:rect l="textAreaLeft" t="textAreaTop" r="textAreaRight" b="textAreaBottom"/>
            <a:pathLst>
              <a:path w="69135" h="21600">
                <a:moveTo>
                  <a:pt x="0" y="0"/>
                </a:moveTo>
                <a:lnTo>
                  <a:pt x="69135" y="0"/>
                </a:lnTo>
                <a:lnTo>
                  <a:pt x="69135" y="21600"/>
                </a:lnTo>
                <a:lnTo>
                  <a:pt x="0" y="21600"/>
                </a:lnTo>
                <a:close/>
              </a:path>
              <a:path fill="lightenLess" w="69135" h="21600">
                <a:moveTo>
                  <a:pt x="0" y="0"/>
                </a:moveTo>
                <a:lnTo>
                  <a:pt x="69135" y="0"/>
                </a:lnTo>
                <a:lnTo>
                  <a:pt x="67735" y="1400"/>
                </a:lnTo>
                <a:lnTo>
                  <a:pt x="1400" y="1400"/>
                </a:lnTo>
                <a:close/>
              </a:path>
              <a:path fill="darken" w="69135" h="21600">
                <a:moveTo>
                  <a:pt x="69135" y="0"/>
                </a:moveTo>
                <a:lnTo>
                  <a:pt x="69135" y="21600"/>
                </a:lnTo>
                <a:lnTo>
                  <a:pt x="67735" y="20200"/>
                </a:lnTo>
                <a:lnTo>
                  <a:pt x="67735" y="1400"/>
                </a:lnTo>
                <a:close/>
              </a:path>
              <a:path fill="darkenLess" w="69135" h="21600">
                <a:moveTo>
                  <a:pt x="69135" y="21600"/>
                </a:moveTo>
                <a:lnTo>
                  <a:pt x="0" y="21600"/>
                </a:lnTo>
                <a:lnTo>
                  <a:pt x="1400" y="20200"/>
                </a:lnTo>
                <a:lnTo>
                  <a:pt x="67735" y="20200"/>
                </a:lnTo>
                <a:close/>
              </a:path>
              <a:path fill="lighten" w="69135" h="21600">
                <a:moveTo>
                  <a:pt x="0" y="21600"/>
                </a:moveTo>
                <a:lnTo>
                  <a:pt x="0" y="0"/>
                </a:lnTo>
                <a:lnTo>
                  <a:pt x="1400" y="1400"/>
                </a:lnTo>
                <a:lnTo>
                  <a:pt x="1400" y="20200"/>
                </a:lnTo>
                <a:close/>
              </a:path>
              <a:path fill="darken" w="69135" h="21600">
                <a:moveTo>
                  <a:pt x="27561" y="3794"/>
                </a:moveTo>
                <a:lnTo>
                  <a:pt x="41574" y="10800"/>
                </a:lnTo>
                <a:lnTo>
                  <a:pt x="275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a:hlinkClick r:id="rId4" action="ppaction://hlinksldjump"/>
          </p:cNvPr>
          <p:cNvSpPr/>
          <p:nvPr/>
        </p:nvSpPr>
        <p:spPr>
          <a:xfrm>
            <a:off x="3780000" y="6165720"/>
            <a:ext cx="1439640" cy="393840"/>
          </a:xfrm>
          <a:custGeom>
            <a:avLst/>
            <a:gdLst>
              <a:gd name="textAreaLeft" fmla="*/ 25200 w 1439640"/>
              <a:gd name="textAreaRight" fmla="*/ 1414440 w 1439640"/>
              <a:gd name="textAreaTop" fmla="*/ 25200 h 393840"/>
              <a:gd name="textAreaBottom" fmla="*/ 368640 h 393840"/>
            </a:gdLst>
            <a:ahLst/>
            <a:rect l="textAreaLeft" t="textAreaTop" r="textAreaRight" b="textAreaBottom"/>
            <a:pathLst>
              <a:path w="78904" h="21600">
                <a:moveTo>
                  <a:pt x="0" y="0"/>
                </a:moveTo>
                <a:lnTo>
                  <a:pt x="78904" y="0"/>
                </a:lnTo>
                <a:lnTo>
                  <a:pt x="78904" y="21600"/>
                </a:lnTo>
                <a:lnTo>
                  <a:pt x="0" y="21600"/>
                </a:lnTo>
                <a:close/>
              </a:path>
              <a:path fill="lightenLess" w="78904" h="21600">
                <a:moveTo>
                  <a:pt x="0" y="0"/>
                </a:moveTo>
                <a:lnTo>
                  <a:pt x="78904" y="0"/>
                </a:lnTo>
                <a:lnTo>
                  <a:pt x="77504" y="1400"/>
                </a:lnTo>
                <a:lnTo>
                  <a:pt x="1400" y="1400"/>
                </a:lnTo>
                <a:close/>
              </a:path>
              <a:path fill="darken" w="78904" h="21600">
                <a:moveTo>
                  <a:pt x="78904" y="0"/>
                </a:moveTo>
                <a:lnTo>
                  <a:pt x="78904" y="21600"/>
                </a:lnTo>
                <a:lnTo>
                  <a:pt x="77504" y="20200"/>
                </a:lnTo>
                <a:lnTo>
                  <a:pt x="77504" y="1400"/>
                </a:lnTo>
                <a:close/>
              </a:path>
              <a:path fill="darkenLess" w="78904" h="21600">
                <a:moveTo>
                  <a:pt x="78904" y="21600"/>
                </a:moveTo>
                <a:lnTo>
                  <a:pt x="0" y="21600"/>
                </a:lnTo>
                <a:lnTo>
                  <a:pt x="1400" y="20200"/>
                </a:lnTo>
                <a:lnTo>
                  <a:pt x="77504" y="20200"/>
                </a:lnTo>
                <a:close/>
              </a:path>
              <a:path fill="lighten" w="78904" h="21600">
                <a:moveTo>
                  <a:pt x="0" y="21600"/>
                </a:moveTo>
                <a:lnTo>
                  <a:pt x="0" y="0"/>
                </a:lnTo>
                <a:lnTo>
                  <a:pt x="1400" y="1400"/>
                </a:lnTo>
                <a:lnTo>
                  <a:pt x="1400" y="20200"/>
                </a:lnTo>
                <a:close/>
              </a:path>
              <a:path fill="darken" w="78904" h="21600">
                <a:moveTo>
                  <a:pt x="32446" y="7493"/>
                </a:moveTo>
                <a:lnTo>
                  <a:pt x="35953" y="7493"/>
                </a:lnTo>
                <a:lnTo>
                  <a:pt x="35953" y="12828"/>
                </a:lnTo>
                <a:cubicBezTo>
                  <a:pt x="35953" y="13751"/>
                  <a:pt x="36754" y="14482"/>
                  <a:pt x="37790" y="14482"/>
                </a:cubicBezTo>
                <a:lnTo>
                  <a:pt x="39452" y="14482"/>
                </a:lnTo>
                <a:cubicBezTo>
                  <a:pt x="40488" y="14482"/>
                  <a:pt x="41289" y="13751"/>
                  <a:pt x="41289" y="12828"/>
                </a:cubicBezTo>
                <a:lnTo>
                  <a:pt x="41289" y="7493"/>
                </a:lnTo>
                <a:lnTo>
                  <a:pt x="39452" y="7493"/>
                </a:lnTo>
                <a:lnTo>
                  <a:pt x="42960" y="3985"/>
                </a:lnTo>
                <a:lnTo>
                  <a:pt x="46633" y="7493"/>
                </a:lnTo>
                <a:lnTo>
                  <a:pt x="44796" y="7493"/>
                </a:lnTo>
                <a:lnTo>
                  <a:pt x="44796" y="12828"/>
                </a:lnTo>
                <a:cubicBezTo>
                  <a:pt x="44796" y="15596"/>
                  <a:pt x="42220" y="18155"/>
                  <a:pt x="39452" y="18155"/>
                </a:cubicBezTo>
                <a:lnTo>
                  <a:pt x="37790" y="18155"/>
                </a:lnTo>
                <a:cubicBezTo>
                  <a:pt x="35022" y="18155"/>
                  <a:pt x="32446" y="15596"/>
                  <a:pt x="32446"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5F25DBA-A457-43FE-A711-404C9277D3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path path="rect">
            <a:fillToRect l="50000" t="50000" r="50000" b="50000"/>
          </a:path>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ONCLUSION</a:t>
            </a:r>
            <a:endParaRPr b="0" lang="en-US" sz="4400" spc="-1" strike="noStrike">
              <a:solidFill>
                <a:srgbClr val="000000"/>
              </a:solidFill>
              <a:latin typeface="Arial"/>
            </a:endParaRPr>
          </a:p>
        </p:txBody>
      </p:sp>
      <p:sp>
        <p:nvSpPr>
          <p:cNvPr id="147" name="PlaceHolder 2"/>
          <p:cNvSpPr>
            <a:spLocks noGrp="1"/>
          </p:cNvSpPr>
          <p:nvPr>
            <p:ph/>
          </p:nvPr>
        </p:nvSpPr>
        <p:spPr>
          <a:xfrm>
            <a:off x="468360" y="2004480"/>
            <a:ext cx="8229600" cy="48531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A SONORIZACION ES MUY IMPORTANTE POR QUE SIN ELLA NO PODRIAMOS, POR EJEMPLO, IR A FIESTAS, A UNA CONFERENCIA, ETC.</a:t>
            </a:r>
            <a:endParaRPr b="0" lang="en-US" sz="3200" spc="-1" strike="noStrike">
              <a:solidFill>
                <a:srgbClr val="000000"/>
              </a:solidFill>
              <a:latin typeface="Arial"/>
            </a:endParaRPr>
          </a:p>
        </p:txBody>
      </p:sp>
      <p:sp>
        <p:nvSpPr>
          <p:cNvPr id="148" name="">
            <a:hlinkClick r:id="" action="ppaction://hlinkshowjump?jump=previousslide"/>
          </p:cNvPr>
          <p:cNvSpPr/>
          <p:nvPr/>
        </p:nvSpPr>
        <p:spPr>
          <a:xfrm>
            <a:off x="250920" y="6165720"/>
            <a:ext cx="1042920" cy="466920"/>
          </a:xfrm>
          <a:custGeom>
            <a:avLst/>
            <a:gdLst>
              <a:gd name="textAreaLeft" fmla="*/ 30240 w 1042920"/>
              <a:gd name="textAreaRight" fmla="*/ 1012680 w 1042920"/>
              <a:gd name="textAreaTop" fmla="*/ 30240 h 466920"/>
              <a:gd name="textAreaBottom" fmla="*/ 436680 h 466920"/>
            </a:gdLst>
            <a:ahLst/>
            <a:rect l="textAreaLeft" t="textAreaTop" r="textAreaRight" b="textAreaBottom"/>
            <a:pathLst>
              <a:path w="48226" h="21600">
                <a:moveTo>
                  <a:pt x="0" y="0"/>
                </a:moveTo>
                <a:lnTo>
                  <a:pt x="48226" y="0"/>
                </a:lnTo>
                <a:lnTo>
                  <a:pt x="48226" y="21600"/>
                </a:lnTo>
                <a:lnTo>
                  <a:pt x="0" y="21600"/>
                </a:lnTo>
                <a:close/>
              </a:path>
              <a:path fill="lightenLess" w="48226" h="21600">
                <a:moveTo>
                  <a:pt x="0" y="0"/>
                </a:moveTo>
                <a:lnTo>
                  <a:pt x="48226" y="0"/>
                </a:lnTo>
                <a:lnTo>
                  <a:pt x="46826" y="1400"/>
                </a:lnTo>
                <a:lnTo>
                  <a:pt x="1400" y="1400"/>
                </a:lnTo>
                <a:close/>
              </a:path>
              <a:path fill="darken" w="48226" h="21600">
                <a:moveTo>
                  <a:pt x="48226" y="0"/>
                </a:moveTo>
                <a:lnTo>
                  <a:pt x="48226" y="21600"/>
                </a:lnTo>
                <a:lnTo>
                  <a:pt x="46826" y="20200"/>
                </a:lnTo>
                <a:lnTo>
                  <a:pt x="46826" y="1400"/>
                </a:lnTo>
                <a:close/>
              </a:path>
              <a:path fill="darkenLess" w="48226" h="21600">
                <a:moveTo>
                  <a:pt x="48226" y="21600"/>
                </a:moveTo>
                <a:lnTo>
                  <a:pt x="0" y="21600"/>
                </a:lnTo>
                <a:lnTo>
                  <a:pt x="1400" y="20200"/>
                </a:lnTo>
                <a:lnTo>
                  <a:pt x="46826" y="20200"/>
                </a:lnTo>
                <a:close/>
              </a:path>
              <a:path fill="lighten" w="48226" h="21600">
                <a:moveTo>
                  <a:pt x="0" y="21600"/>
                </a:moveTo>
                <a:lnTo>
                  <a:pt x="0" y="0"/>
                </a:lnTo>
                <a:lnTo>
                  <a:pt x="1400" y="1400"/>
                </a:lnTo>
                <a:lnTo>
                  <a:pt x="1400" y="20200"/>
                </a:lnTo>
                <a:close/>
              </a:path>
              <a:path fill="darken" w="48226" h="21600">
                <a:moveTo>
                  <a:pt x="17106" y="10800"/>
                </a:moveTo>
                <a:lnTo>
                  <a:pt x="31119" y="3794"/>
                </a:lnTo>
                <a:lnTo>
                  <a:pt x="3111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a:hlinkClick r:id="" action="ppaction://hlinkshowjump?jump=nextslide"/>
          </p:cNvPr>
          <p:cNvSpPr/>
          <p:nvPr/>
        </p:nvSpPr>
        <p:spPr>
          <a:xfrm>
            <a:off x="7451640" y="6165720"/>
            <a:ext cx="1297080" cy="405000"/>
          </a:xfrm>
          <a:custGeom>
            <a:avLst/>
            <a:gdLst>
              <a:gd name="textAreaLeft" fmla="*/ 25920 w 1297080"/>
              <a:gd name="textAreaRight" fmla="*/ 1271160 w 1297080"/>
              <a:gd name="textAreaTop" fmla="*/ 25920 h 405000"/>
              <a:gd name="textAreaBottom" fmla="*/ 379080 h 405000"/>
            </a:gdLst>
            <a:ahLst/>
            <a:rect l="textAreaLeft" t="textAreaTop" r="textAreaRight" b="textAreaBottom"/>
            <a:pathLst>
              <a:path w="69135" h="21600">
                <a:moveTo>
                  <a:pt x="0" y="0"/>
                </a:moveTo>
                <a:lnTo>
                  <a:pt x="69135" y="0"/>
                </a:lnTo>
                <a:lnTo>
                  <a:pt x="69135" y="21600"/>
                </a:lnTo>
                <a:lnTo>
                  <a:pt x="0" y="21600"/>
                </a:lnTo>
                <a:close/>
              </a:path>
              <a:path fill="lightenLess" w="69135" h="21600">
                <a:moveTo>
                  <a:pt x="0" y="0"/>
                </a:moveTo>
                <a:lnTo>
                  <a:pt x="69135" y="0"/>
                </a:lnTo>
                <a:lnTo>
                  <a:pt x="67735" y="1400"/>
                </a:lnTo>
                <a:lnTo>
                  <a:pt x="1400" y="1400"/>
                </a:lnTo>
                <a:close/>
              </a:path>
              <a:path fill="darken" w="69135" h="21600">
                <a:moveTo>
                  <a:pt x="69135" y="0"/>
                </a:moveTo>
                <a:lnTo>
                  <a:pt x="69135" y="21600"/>
                </a:lnTo>
                <a:lnTo>
                  <a:pt x="67735" y="20200"/>
                </a:lnTo>
                <a:lnTo>
                  <a:pt x="67735" y="1400"/>
                </a:lnTo>
                <a:close/>
              </a:path>
              <a:path fill="darkenLess" w="69135" h="21600">
                <a:moveTo>
                  <a:pt x="69135" y="21600"/>
                </a:moveTo>
                <a:lnTo>
                  <a:pt x="0" y="21600"/>
                </a:lnTo>
                <a:lnTo>
                  <a:pt x="1400" y="20200"/>
                </a:lnTo>
                <a:lnTo>
                  <a:pt x="67735" y="20200"/>
                </a:lnTo>
                <a:close/>
              </a:path>
              <a:path fill="lighten" w="69135" h="21600">
                <a:moveTo>
                  <a:pt x="0" y="21600"/>
                </a:moveTo>
                <a:lnTo>
                  <a:pt x="0" y="0"/>
                </a:lnTo>
                <a:lnTo>
                  <a:pt x="1400" y="1400"/>
                </a:lnTo>
                <a:lnTo>
                  <a:pt x="1400" y="20200"/>
                </a:lnTo>
                <a:close/>
              </a:path>
              <a:path fill="darken" w="69135" h="21600">
                <a:moveTo>
                  <a:pt x="27561" y="3794"/>
                </a:moveTo>
                <a:lnTo>
                  <a:pt x="41574" y="10800"/>
                </a:lnTo>
                <a:lnTo>
                  <a:pt x="275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a:hlinkClick r:id="rId2" action="ppaction://hlinksldjump"/>
          </p:cNvPr>
          <p:cNvSpPr/>
          <p:nvPr/>
        </p:nvSpPr>
        <p:spPr>
          <a:xfrm>
            <a:off x="3780000" y="6165720"/>
            <a:ext cx="1439640" cy="393840"/>
          </a:xfrm>
          <a:custGeom>
            <a:avLst/>
            <a:gdLst>
              <a:gd name="textAreaLeft" fmla="*/ 25200 w 1439640"/>
              <a:gd name="textAreaRight" fmla="*/ 1414440 w 1439640"/>
              <a:gd name="textAreaTop" fmla="*/ 25200 h 393840"/>
              <a:gd name="textAreaBottom" fmla="*/ 368640 h 393840"/>
            </a:gdLst>
            <a:ahLst/>
            <a:rect l="textAreaLeft" t="textAreaTop" r="textAreaRight" b="textAreaBottom"/>
            <a:pathLst>
              <a:path w="78904" h="21600">
                <a:moveTo>
                  <a:pt x="0" y="0"/>
                </a:moveTo>
                <a:lnTo>
                  <a:pt x="78904" y="0"/>
                </a:lnTo>
                <a:lnTo>
                  <a:pt x="78904" y="21600"/>
                </a:lnTo>
                <a:lnTo>
                  <a:pt x="0" y="21600"/>
                </a:lnTo>
                <a:close/>
              </a:path>
              <a:path fill="lightenLess" w="78904" h="21600">
                <a:moveTo>
                  <a:pt x="0" y="0"/>
                </a:moveTo>
                <a:lnTo>
                  <a:pt x="78904" y="0"/>
                </a:lnTo>
                <a:lnTo>
                  <a:pt x="77504" y="1400"/>
                </a:lnTo>
                <a:lnTo>
                  <a:pt x="1400" y="1400"/>
                </a:lnTo>
                <a:close/>
              </a:path>
              <a:path fill="darken" w="78904" h="21600">
                <a:moveTo>
                  <a:pt x="78904" y="0"/>
                </a:moveTo>
                <a:lnTo>
                  <a:pt x="78904" y="21600"/>
                </a:lnTo>
                <a:lnTo>
                  <a:pt x="77504" y="20200"/>
                </a:lnTo>
                <a:lnTo>
                  <a:pt x="77504" y="1400"/>
                </a:lnTo>
                <a:close/>
              </a:path>
              <a:path fill="darkenLess" w="78904" h="21600">
                <a:moveTo>
                  <a:pt x="78904" y="21600"/>
                </a:moveTo>
                <a:lnTo>
                  <a:pt x="0" y="21600"/>
                </a:lnTo>
                <a:lnTo>
                  <a:pt x="1400" y="20200"/>
                </a:lnTo>
                <a:lnTo>
                  <a:pt x="77504" y="20200"/>
                </a:lnTo>
                <a:close/>
              </a:path>
              <a:path fill="lighten" w="78904" h="21600">
                <a:moveTo>
                  <a:pt x="0" y="21600"/>
                </a:moveTo>
                <a:lnTo>
                  <a:pt x="0" y="0"/>
                </a:lnTo>
                <a:lnTo>
                  <a:pt x="1400" y="1400"/>
                </a:lnTo>
                <a:lnTo>
                  <a:pt x="1400" y="20200"/>
                </a:lnTo>
                <a:close/>
              </a:path>
              <a:path fill="darken" w="78904" h="21600">
                <a:moveTo>
                  <a:pt x="32446" y="7493"/>
                </a:moveTo>
                <a:lnTo>
                  <a:pt x="35953" y="7493"/>
                </a:lnTo>
                <a:lnTo>
                  <a:pt x="35953" y="12828"/>
                </a:lnTo>
                <a:cubicBezTo>
                  <a:pt x="35953" y="13751"/>
                  <a:pt x="36754" y="14482"/>
                  <a:pt x="37790" y="14482"/>
                </a:cubicBezTo>
                <a:lnTo>
                  <a:pt x="39452" y="14482"/>
                </a:lnTo>
                <a:cubicBezTo>
                  <a:pt x="40488" y="14482"/>
                  <a:pt x="41289" y="13751"/>
                  <a:pt x="41289" y="12828"/>
                </a:cubicBezTo>
                <a:lnTo>
                  <a:pt x="41289" y="7493"/>
                </a:lnTo>
                <a:lnTo>
                  <a:pt x="39452" y="7493"/>
                </a:lnTo>
                <a:lnTo>
                  <a:pt x="42960" y="3985"/>
                </a:lnTo>
                <a:lnTo>
                  <a:pt x="46633" y="7493"/>
                </a:lnTo>
                <a:lnTo>
                  <a:pt x="44796" y="7493"/>
                </a:lnTo>
                <a:lnTo>
                  <a:pt x="44796" y="12828"/>
                </a:lnTo>
                <a:cubicBezTo>
                  <a:pt x="44796" y="15596"/>
                  <a:pt x="42220" y="18155"/>
                  <a:pt x="39452" y="18155"/>
                </a:cubicBezTo>
                <a:lnTo>
                  <a:pt x="37790" y="18155"/>
                </a:lnTo>
                <a:cubicBezTo>
                  <a:pt x="35022" y="18155"/>
                  <a:pt x="32446" y="15596"/>
                  <a:pt x="32446"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BE34F5C-20B4-4D38-BD2D-8717F5BF21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4360" y="1483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ASI QUE</a:t>
            </a:r>
            <a:endParaRPr b="0" lang="en-US" sz="4400" spc="-1" strike="noStrike">
              <a:solidFill>
                <a:srgbClr val="000000"/>
              </a:solidFill>
              <a:latin typeface="Arial"/>
            </a:endParaRPr>
          </a:p>
        </p:txBody>
      </p:sp>
      <p:sp>
        <p:nvSpPr>
          <p:cNvPr id="152" name="PlaceHolder 2"/>
          <p:cNvSpPr>
            <a:spLocks noGrp="1"/>
          </p:cNvSpPr>
          <p:nvPr>
            <p:ph type="subTitle"/>
          </p:nvPr>
        </p:nvSpPr>
        <p:spPr>
          <a:xfrm>
            <a:off x="140328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NO TE DUERMAS Y BUSCA SOLUCIONES A TUS PROBLEMAS</a:t>
            </a:r>
            <a:endParaRPr b="0" lang="en-US" sz="3200" spc="-1" strike="noStrike">
              <a:solidFill>
                <a:srgbClr val="000000"/>
              </a:solidFill>
              <a:latin typeface="Arial"/>
            </a:endParaRPr>
          </a:p>
        </p:txBody>
      </p:sp>
      <p:sp>
        <p:nvSpPr>
          <p:cNvPr id="153" name="">
            <a:hlinkClick r:id="" action="ppaction://hlinkshowjump?jump=previousslide"/>
          </p:cNvPr>
          <p:cNvSpPr/>
          <p:nvPr/>
        </p:nvSpPr>
        <p:spPr>
          <a:xfrm>
            <a:off x="250920" y="6165720"/>
            <a:ext cx="1042920" cy="466920"/>
          </a:xfrm>
          <a:custGeom>
            <a:avLst/>
            <a:gdLst>
              <a:gd name="textAreaLeft" fmla="*/ 30240 w 1042920"/>
              <a:gd name="textAreaRight" fmla="*/ 1012680 w 1042920"/>
              <a:gd name="textAreaTop" fmla="*/ 30240 h 466920"/>
              <a:gd name="textAreaBottom" fmla="*/ 436680 h 466920"/>
            </a:gdLst>
            <a:ahLst/>
            <a:rect l="textAreaLeft" t="textAreaTop" r="textAreaRight" b="textAreaBottom"/>
            <a:pathLst>
              <a:path w="48226" h="21600">
                <a:moveTo>
                  <a:pt x="0" y="0"/>
                </a:moveTo>
                <a:lnTo>
                  <a:pt x="48226" y="0"/>
                </a:lnTo>
                <a:lnTo>
                  <a:pt x="48226" y="21600"/>
                </a:lnTo>
                <a:lnTo>
                  <a:pt x="0" y="21600"/>
                </a:lnTo>
                <a:close/>
              </a:path>
              <a:path fill="lightenLess" w="48226" h="21600">
                <a:moveTo>
                  <a:pt x="0" y="0"/>
                </a:moveTo>
                <a:lnTo>
                  <a:pt x="48226" y="0"/>
                </a:lnTo>
                <a:lnTo>
                  <a:pt x="46826" y="1400"/>
                </a:lnTo>
                <a:lnTo>
                  <a:pt x="1400" y="1400"/>
                </a:lnTo>
                <a:close/>
              </a:path>
              <a:path fill="darken" w="48226" h="21600">
                <a:moveTo>
                  <a:pt x="48226" y="0"/>
                </a:moveTo>
                <a:lnTo>
                  <a:pt x="48226" y="21600"/>
                </a:lnTo>
                <a:lnTo>
                  <a:pt x="46826" y="20200"/>
                </a:lnTo>
                <a:lnTo>
                  <a:pt x="46826" y="1400"/>
                </a:lnTo>
                <a:close/>
              </a:path>
              <a:path fill="darkenLess" w="48226" h="21600">
                <a:moveTo>
                  <a:pt x="48226" y="21600"/>
                </a:moveTo>
                <a:lnTo>
                  <a:pt x="0" y="21600"/>
                </a:lnTo>
                <a:lnTo>
                  <a:pt x="1400" y="20200"/>
                </a:lnTo>
                <a:lnTo>
                  <a:pt x="46826" y="20200"/>
                </a:lnTo>
                <a:close/>
              </a:path>
              <a:path fill="lighten" w="48226" h="21600">
                <a:moveTo>
                  <a:pt x="0" y="21600"/>
                </a:moveTo>
                <a:lnTo>
                  <a:pt x="0" y="0"/>
                </a:lnTo>
                <a:lnTo>
                  <a:pt x="1400" y="1400"/>
                </a:lnTo>
                <a:lnTo>
                  <a:pt x="1400" y="20200"/>
                </a:lnTo>
                <a:close/>
              </a:path>
              <a:path fill="darken" w="48226" h="21600">
                <a:moveTo>
                  <a:pt x="17106" y="10800"/>
                </a:moveTo>
                <a:lnTo>
                  <a:pt x="31119" y="3794"/>
                </a:lnTo>
                <a:lnTo>
                  <a:pt x="3111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a:hlinkClick r:id="" action="ppaction://hlinkshowjump?jump=endshow"/>
          </p:cNvPr>
          <p:cNvSpPr/>
          <p:nvPr/>
        </p:nvSpPr>
        <p:spPr>
          <a:xfrm>
            <a:off x="7596360" y="6237360"/>
            <a:ext cx="1223640" cy="395280"/>
          </a:xfrm>
          <a:custGeom>
            <a:avLst/>
            <a:gdLst>
              <a:gd name="textAreaLeft" fmla="*/ 25560 w 1223640"/>
              <a:gd name="textAreaRight" fmla="*/ 1198080 w 1223640"/>
              <a:gd name="textAreaTop" fmla="*/ 25560 h 395280"/>
              <a:gd name="textAreaBottom" fmla="*/ 369720 h 395280"/>
            </a:gdLst>
            <a:ahLst/>
            <a:rect l="textAreaLeft" t="textAreaTop" r="textAreaRight" b="textAreaBottom"/>
            <a:pathLst>
              <a:path w="66824" h="21600">
                <a:moveTo>
                  <a:pt x="0" y="0"/>
                </a:moveTo>
                <a:lnTo>
                  <a:pt x="66824" y="0"/>
                </a:lnTo>
                <a:lnTo>
                  <a:pt x="66824" y="21600"/>
                </a:lnTo>
                <a:lnTo>
                  <a:pt x="0" y="21600"/>
                </a:lnTo>
                <a:close/>
              </a:path>
              <a:path fill="lightenLess" w="66824" h="21600">
                <a:moveTo>
                  <a:pt x="0" y="0"/>
                </a:moveTo>
                <a:lnTo>
                  <a:pt x="66824" y="0"/>
                </a:lnTo>
                <a:lnTo>
                  <a:pt x="65424" y="1400"/>
                </a:lnTo>
                <a:lnTo>
                  <a:pt x="1400" y="1400"/>
                </a:lnTo>
                <a:close/>
              </a:path>
              <a:path fill="darken" w="66824" h="21600">
                <a:moveTo>
                  <a:pt x="66824" y="0"/>
                </a:moveTo>
                <a:lnTo>
                  <a:pt x="66824" y="21600"/>
                </a:lnTo>
                <a:lnTo>
                  <a:pt x="65424" y="20200"/>
                </a:lnTo>
                <a:lnTo>
                  <a:pt x="65424" y="1400"/>
                </a:lnTo>
                <a:close/>
              </a:path>
              <a:path fill="darkenLess" w="66824" h="21600">
                <a:moveTo>
                  <a:pt x="66824" y="21600"/>
                </a:moveTo>
                <a:lnTo>
                  <a:pt x="0" y="21600"/>
                </a:lnTo>
                <a:lnTo>
                  <a:pt x="1400" y="20200"/>
                </a:lnTo>
                <a:lnTo>
                  <a:pt x="65424" y="20200"/>
                </a:lnTo>
                <a:close/>
              </a:path>
              <a:path fill="lighten" w="66824" h="21600">
                <a:moveTo>
                  <a:pt x="0" y="21600"/>
                </a:moveTo>
                <a:lnTo>
                  <a:pt x="0" y="0"/>
                </a:lnTo>
                <a:lnTo>
                  <a:pt x="1400" y="1400"/>
                </a:lnTo>
                <a:lnTo>
                  <a:pt x="1400" y="20200"/>
                </a:lnTo>
                <a:close/>
              </a:path>
              <a:path fill="darken" w="66824" h="21600">
                <a:moveTo>
                  <a:pt x="26406" y="3794"/>
                </a:moveTo>
                <a:lnTo>
                  <a:pt x="40419" y="10800"/>
                </a:lnTo>
                <a:lnTo>
                  <a:pt x="2640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a:hlinkClick r:id="rId2" action="ppaction://hlinksldjump"/>
          </p:cNvPr>
          <p:cNvSpPr/>
          <p:nvPr/>
        </p:nvSpPr>
        <p:spPr>
          <a:xfrm>
            <a:off x="3780000" y="6165720"/>
            <a:ext cx="1439640" cy="393840"/>
          </a:xfrm>
          <a:custGeom>
            <a:avLst/>
            <a:gdLst>
              <a:gd name="textAreaLeft" fmla="*/ 25200 w 1439640"/>
              <a:gd name="textAreaRight" fmla="*/ 1414440 w 1439640"/>
              <a:gd name="textAreaTop" fmla="*/ 25200 h 393840"/>
              <a:gd name="textAreaBottom" fmla="*/ 368640 h 393840"/>
            </a:gdLst>
            <a:ahLst/>
            <a:rect l="textAreaLeft" t="textAreaTop" r="textAreaRight" b="textAreaBottom"/>
            <a:pathLst>
              <a:path w="78904" h="21600">
                <a:moveTo>
                  <a:pt x="0" y="0"/>
                </a:moveTo>
                <a:lnTo>
                  <a:pt x="78904" y="0"/>
                </a:lnTo>
                <a:lnTo>
                  <a:pt x="78904" y="21600"/>
                </a:lnTo>
                <a:lnTo>
                  <a:pt x="0" y="21600"/>
                </a:lnTo>
                <a:close/>
              </a:path>
              <a:path fill="lightenLess" w="78904" h="21600">
                <a:moveTo>
                  <a:pt x="0" y="0"/>
                </a:moveTo>
                <a:lnTo>
                  <a:pt x="78904" y="0"/>
                </a:lnTo>
                <a:lnTo>
                  <a:pt x="77504" y="1400"/>
                </a:lnTo>
                <a:lnTo>
                  <a:pt x="1400" y="1400"/>
                </a:lnTo>
                <a:close/>
              </a:path>
              <a:path fill="darken" w="78904" h="21600">
                <a:moveTo>
                  <a:pt x="78904" y="0"/>
                </a:moveTo>
                <a:lnTo>
                  <a:pt x="78904" y="21600"/>
                </a:lnTo>
                <a:lnTo>
                  <a:pt x="77504" y="20200"/>
                </a:lnTo>
                <a:lnTo>
                  <a:pt x="77504" y="1400"/>
                </a:lnTo>
                <a:close/>
              </a:path>
              <a:path fill="darkenLess" w="78904" h="21600">
                <a:moveTo>
                  <a:pt x="78904" y="21600"/>
                </a:moveTo>
                <a:lnTo>
                  <a:pt x="0" y="21600"/>
                </a:lnTo>
                <a:lnTo>
                  <a:pt x="1400" y="20200"/>
                </a:lnTo>
                <a:lnTo>
                  <a:pt x="77504" y="20200"/>
                </a:lnTo>
                <a:close/>
              </a:path>
              <a:path fill="lighten" w="78904" h="21600">
                <a:moveTo>
                  <a:pt x="0" y="21600"/>
                </a:moveTo>
                <a:lnTo>
                  <a:pt x="0" y="0"/>
                </a:lnTo>
                <a:lnTo>
                  <a:pt x="1400" y="1400"/>
                </a:lnTo>
                <a:lnTo>
                  <a:pt x="1400" y="20200"/>
                </a:lnTo>
                <a:close/>
              </a:path>
              <a:path fill="darken" w="78904" h="21600">
                <a:moveTo>
                  <a:pt x="32446" y="7493"/>
                </a:moveTo>
                <a:lnTo>
                  <a:pt x="35953" y="7493"/>
                </a:lnTo>
                <a:lnTo>
                  <a:pt x="35953" y="12828"/>
                </a:lnTo>
                <a:cubicBezTo>
                  <a:pt x="35953" y="13751"/>
                  <a:pt x="36754" y="14482"/>
                  <a:pt x="37790" y="14482"/>
                </a:cubicBezTo>
                <a:lnTo>
                  <a:pt x="39452" y="14482"/>
                </a:lnTo>
                <a:cubicBezTo>
                  <a:pt x="40488" y="14482"/>
                  <a:pt x="41289" y="13751"/>
                  <a:pt x="41289" y="12828"/>
                </a:cubicBezTo>
                <a:lnTo>
                  <a:pt x="41289" y="7493"/>
                </a:lnTo>
                <a:lnTo>
                  <a:pt x="39452" y="7493"/>
                </a:lnTo>
                <a:lnTo>
                  <a:pt x="42960" y="3985"/>
                </a:lnTo>
                <a:lnTo>
                  <a:pt x="46633" y="7493"/>
                </a:lnTo>
                <a:lnTo>
                  <a:pt x="44796" y="7493"/>
                </a:lnTo>
                <a:lnTo>
                  <a:pt x="44796" y="12828"/>
                </a:lnTo>
                <a:cubicBezTo>
                  <a:pt x="44796" y="15596"/>
                  <a:pt x="42220" y="18155"/>
                  <a:pt x="39452" y="18155"/>
                </a:cubicBezTo>
                <a:lnTo>
                  <a:pt x="37790" y="18155"/>
                </a:lnTo>
                <a:cubicBezTo>
                  <a:pt x="35022" y="18155"/>
                  <a:pt x="32446" y="15596"/>
                  <a:pt x="32446"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BE36B75-3B27-4BE0-A9A1-72CFD58F640B}"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path path="rect">
            <a:fillToRect l="50000" t="50000" r="50000" b="50000"/>
          </a:path>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INDICE</a:t>
            </a:r>
            <a:endParaRPr b="0" lang="en-US" sz="4400" spc="-1" strike="noStrike">
              <a:solidFill>
                <a:srgbClr val="000000"/>
              </a:solidFill>
              <a:latin typeface="Arial"/>
            </a:endParaRPr>
          </a:p>
        </p:txBody>
      </p:sp>
      <p:sp>
        <p:nvSpPr>
          <p:cNvPr id="49" name="PlaceHolder 2"/>
          <p:cNvSpPr>
            <a:spLocks noGrp="1"/>
          </p:cNvSpPr>
          <p:nvPr>
            <p:ph/>
          </p:nvPr>
        </p:nvSpPr>
        <p:spPr>
          <a:xfrm>
            <a:off x="468360" y="1196640"/>
            <a:ext cx="8229600" cy="5141880"/>
          </a:xfrm>
          <a:prstGeom prst="rect">
            <a:avLst/>
          </a:prstGeom>
          <a:noFill/>
          <a:ln w="0">
            <a:noFill/>
          </a:ln>
        </p:spPr>
        <p:txBody>
          <a:bodyPr lIns="90000" rIns="90000" tIns="46800" bIns="46800" anchor="t">
            <a:normAutofit/>
          </a:bodyPr>
          <a:p>
            <a:pPr marL="343080" indent="-343080">
              <a:lnSpc>
                <a:spcPct val="8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009999"/>
                </a:solidFill>
                <a:uFillTx/>
                <a:latin typeface="Arial"/>
                <a:hlinkClick r:id="rId2" action="ppaction://hlinksldjump"/>
              </a:rPr>
              <a:t>INTRODUCCION</a:t>
            </a:r>
            <a:r>
              <a:rPr b="0" lang="es-MX"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009999"/>
                </a:solidFill>
                <a:uFillTx/>
                <a:latin typeface="Arial"/>
                <a:hlinkClick r:id="rId4" action="ppaction://hlinksldjump"/>
              </a:rPr>
              <a:t>OBJETIVO</a:t>
            </a:r>
            <a:r>
              <a:rPr b="0" lang="es-MX"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009999"/>
                </a:solidFill>
                <a:uFillTx/>
                <a:latin typeface="Arial"/>
                <a:hlinkClick r:id="rId6" action="ppaction://hlinksldjump"/>
              </a:rPr>
              <a:t>PROBLEMATIZACIÓN</a:t>
            </a:r>
            <a:endParaRPr b="0" lang="en-US" sz="1800" spc="-1" strike="noStrike">
              <a:solidFill>
                <a:srgbClr val="000000"/>
              </a:solidFill>
              <a:latin typeface="Arial"/>
            </a:endParaRPr>
          </a:p>
          <a:p>
            <a:pPr marL="343080" indent="-343080">
              <a:lnSpc>
                <a:spcPct val="80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009999"/>
                </a:solidFill>
                <a:uFillTx/>
                <a:latin typeface="Arial"/>
                <a:hlinkClick r:id="rId8" action="ppaction://hlinksldjump"/>
              </a:rPr>
              <a:t>PROBLEMA</a:t>
            </a:r>
            <a:endParaRPr b="0" lang="en-US" sz="1800" spc="-1" strike="noStrike">
              <a:solidFill>
                <a:srgbClr val="000000"/>
              </a:solidFill>
              <a:latin typeface="Arial"/>
            </a:endParaRPr>
          </a:p>
          <a:p>
            <a:pPr marL="343080" indent="-343080">
              <a:lnSpc>
                <a:spcPct val="80000"/>
              </a:lnSpc>
              <a:spcBef>
                <a:spcPts val="451"/>
              </a:spcBef>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009999"/>
                </a:solidFill>
                <a:uFillTx/>
                <a:latin typeface="Arial"/>
                <a:hlinkClick r:id="rId10" action="ppaction://hlinksldjump"/>
              </a:rPr>
              <a:t>POSIBLES SOLUCIONES</a:t>
            </a:r>
            <a:endParaRPr b="0" lang="en-US" sz="1800" spc="-1" strike="noStrike">
              <a:solidFill>
                <a:srgbClr val="000000"/>
              </a:solidFill>
              <a:latin typeface="Arial"/>
            </a:endParaRPr>
          </a:p>
          <a:p>
            <a:pPr marL="343080" indent="-343080">
              <a:lnSpc>
                <a:spcPct val="80000"/>
              </a:lnSpc>
              <a:spcBef>
                <a:spcPts val="451"/>
              </a:spcBef>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009999"/>
                </a:solidFill>
                <a:uFillTx/>
                <a:latin typeface="Arial"/>
                <a:hlinkClick r:id="rId12" action="ppaction://hlinksldjump"/>
              </a:rPr>
              <a:t>JUSTIFICACION</a:t>
            </a:r>
            <a:endParaRPr b="0" lang="en-US" sz="1800" spc="-1" strike="noStrike">
              <a:solidFill>
                <a:srgbClr val="000000"/>
              </a:solidFill>
              <a:latin typeface="Arial"/>
            </a:endParaRPr>
          </a:p>
          <a:p>
            <a:pPr marL="343080" indent="-343080">
              <a:lnSpc>
                <a:spcPct val="80000"/>
              </a:lnSpc>
              <a:spcBef>
                <a:spcPts val="451"/>
              </a:spcBef>
              <a:buSzPct val="1028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009999"/>
                </a:solidFill>
                <a:uFillTx/>
                <a:latin typeface="Arial"/>
                <a:hlinkClick r:id="rId14" action="ppaction://hlinksldjump"/>
              </a:rPr>
              <a:t>LISTA DE MATERIALES</a:t>
            </a:r>
            <a:endParaRPr b="0" lang="en-US" sz="1800" spc="-1" strike="noStrike">
              <a:solidFill>
                <a:srgbClr val="000000"/>
              </a:solidFill>
              <a:latin typeface="Arial"/>
            </a:endParaRPr>
          </a:p>
          <a:p>
            <a:pPr marL="343080" indent="-343080">
              <a:lnSpc>
                <a:spcPct val="80000"/>
              </a:lnSpc>
              <a:spcBef>
                <a:spcPts val="451"/>
              </a:spcBef>
              <a:buSzPct val="10281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HERRAMIENTA </a:t>
            </a:r>
            <a:endParaRPr b="0" lang="en-US" sz="1800" spc="-1" strike="noStrike">
              <a:solidFill>
                <a:srgbClr val="000000"/>
              </a:solidFill>
              <a:latin typeface="Arial"/>
            </a:endParaRPr>
          </a:p>
          <a:p>
            <a:pPr marL="343080" indent="-343080">
              <a:lnSpc>
                <a:spcPct val="80000"/>
              </a:lnSpc>
              <a:spcBef>
                <a:spcPts val="451"/>
              </a:spcBef>
              <a:buSzPct val="10281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AGRAMA ESQUEMATICO</a:t>
            </a:r>
            <a:endParaRPr b="0" lang="en-US" sz="1800" spc="-1" strike="noStrike">
              <a:solidFill>
                <a:srgbClr val="000000"/>
              </a:solidFill>
              <a:latin typeface="Arial"/>
            </a:endParaRPr>
          </a:p>
          <a:p>
            <a:pPr marL="343080" indent="-343080">
              <a:lnSpc>
                <a:spcPct val="80000"/>
              </a:lnSpc>
              <a:spcBef>
                <a:spcPts val="451"/>
              </a:spcBef>
              <a:buSzPct val="10281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AGRAMA PICTORICO</a:t>
            </a:r>
            <a:endParaRPr b="0" lang="en-US" sz="1800" spc="-1" strike="noStrike">
              <a:solidFill>
                <a:srgbClr val="000000"/>
              </a:solidFill>
              <a:latin typeface="Arial"/>
            </a:endParaRPr>
          </a:p>
          <a:p>
            <a:pPr marL="343080" indent="-343080">
              <a:lnSpc>
                <a:spcPct val="80000"/>
              </a:lnSpc>
              <a:spcBef>
                <a:spcPts val="451"/>
              </a:spcBef>
              <a:buSzPct val="10281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CEMIENTO</a:t>
            </a:r>
            <a:endParaRPr b="0" lang="en-US" sz="1800" spc="-1" strike="noStrike">
              <a:solidFill>
                <a:srgbClr val="000000"/>
              </a:solidFill>
              <a:latin typeface="Arial"/>
            </a:endParaRPr>
          </a:p>
          <a:p>
            <a:pPr marL="343080" indent="-343080">
              <a:lnSpc>
                <a:spcPct val="80000"/>
              </a:lnSpc>
              <a:spcBef>
                <a:spcPts val="451"/>
              </a:spcBef>
              <a:buSzPct val="102812"/>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RUCTURA</a:t>
            </a:r>
            <a:endParaRPr b="0" lang="en-US" sz="1800" spc="-1" strike="noStrike">
              <a:solidFill>
                <a:srgbClr val="000000"/>
              </a:solidFill>
              <a:latin typeface="Arial"/>
            </a:endParaRPr>
          </a:p>
          <a:p>
            <a:pPr marL="343080" indent="-343080">
              <a:lnSpc>
                <a:spcPct val="80000"/>
              </a:lnSpc>
              <a:spcBef>
                <a:spcPts val="451"/>
              </a:spcBef>
              <a:buSzPct val="102812"/>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UNCIONAMIENTO</a:t>
            </a:r>
            <a:endParaRPr b="0" lang="en-US" sz="1800" spc="-1" strike="noStrike">
              <a:solidFill>
                <a:srgbClr val="000000"/>
              </a:solidFill>
              <a:latin typeface="Arial"/>
            </a:endParaRPr>
          </a:p>
          <a:p>
            <a:pPr marL="343080" indent="-343080">
              <a:lnSpc>
                <a:spcPct val="80000"/>
              </a:lnSpc>
              <a:spcBef>
                <a:spcPts val="451"/>
              </a:spcBef>
              <a:buSzPct val="102812"/>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UNCIONALIDAD</a:t>
            </a:r>
            <a:endParaRPr b="0" lang="en-US" sz="1800" spc="-1" strike="noStrike">
              <a:solidFill>
                <a:srgbClr val="000000"/>
              </a:solidFill>
              <a:latin typeface="Arial"/>
            </a:endParaRPr>
          </a:p>
          <a:p>
            <a:pPr marL="343080" indent="-343080">
              <a:lnSpc>
                <a:spcPct val="80000"/>
              </a:lnSpc>
              <a:spcBef>
                <a:spcPts val="451"/>
              </a:spcBef>
              <a:buSzPct val="102812"/>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SULTADOS</a:t>
            </a:r>
            <a:endParaRPr b="0" lang="en-US" sz="1800" spc="-1" strike="noStrike">
              <a:solidFill>
                <a:srgbClr val="000000"/>
              </a:solidFill>
              <a:latin typeface="Arial"/>
            </a:endParaRPr>
          </a:p>
          <a:p>
            <a:pPr marL="343080" indent="-343080">
              <a:lnSpc>
                <a:spcPct val="80000"/>
              </a:lnSpc>
              <a:spcBef>
                <a:spcPts val="451"/>
              </a:spcBef>
              <a:buSzPct val="102812"/>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CLUSION</a:t>
            </a:r>
            <a:endParaRPr b="0" lang="en-US" sz="1800" spc="-1" strike="noStrike">
              <a:solidFill>
                <a:srgbClr val="000000"/>
              </a:solidFill>
              <a:latin typeface="Arial"/>
            </a:endParaRPr>
          </a:p>
          <a:p>
            <a:pPr marL="343080" indent="-343080">
              <a:lnSpc>
                <a:spcPct val="80000"/>
              </a:lnSpc>
              <a:spcBef>
                <a:spcPts val="451"/>
              </a:spcBef>
              <a:buSzPct val="102812"/>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MENTARIO</a:t>
            </a:r>
            <a:endParaRPr b="0" lang="en-US" sz="1800" spc="-1" strike="noStrike">
              <a:solidFill>
                <a:srgbClr val="000000"/>
              </a:solidFill>
              <a:latin typeface="Arial"/>
            </a:endParaRPr>
          </a:p>
        </p:txBody>
      </p:sp>
      <p:sp>
        <p:nvSpPr>
          <p:cNvPr id="50" name="">
            <a:hlinkClick r:id="" action="ppaction://hlinkshowjump?jump=previousslide"/>
          </p:cNvPr>
          <p:cNvSpPr/>
          <p:nvPr/>
        </p:nvSpPr>
        <p:spPr>
          <a:xfrm>
            <a:off x="324000" y="6093000"/>
            <a:ext cx="1042920" cy="466560"/>
          </a:xfrm>
          <a:custGeom>
            <a:avLst/>
            <a:gdLst>
              <a:gd name="textAreaLeft" fmla="*/ 30240 w 1042920"/>
              <a:gd name="textAreaRight" fmla="*/ 1012680 w 1042920"/>
              <a:gd name="textAreaTop" fmla="*/ 30240 h 466560"/>
              <a:gd name="textAreaBottom" fmla="*/ 436320 h 466560"/>
            </a:gdLst>
            <a:ahLst/>
            <a:rect l="textAreaLeft" t="textAreaTop" r="textAreaRight" b="textAreaBottom"/>
            <a:pathLst>
              <a:path w="48263" h="21600">
                <a:moveTo>
                  <a:pt x="0" y="0"/>
                </a:moveTo>
                <a:lnTo>
                  <a:pt x="48263" y="0"/>
                </a:lnTo>
                <a:lnTo>
                  <a:pt x="48263" y="21600"/>
                </a:lnTo>
                <a:lnTo>
                  <a:pt x="0" y="21600"/>
                </a:lnTo>
                <a:close/>
              </a:path>
              <a:path fill="lightenLess" w="48263" h="21600">
                <a:moveTo>
                  <a:pt x="0" y="0"/>
                </a:moveTo>
                <a:lnTo>
                  <a:pt x="48263" y="0"/>
                </a:lnTo>
                <a:lnTo>
                  <a:pt x="46863" y="1400"/>
                </a:lnTo>
                <a:lnTo>
                  <a:pt x="1400" y="1400"/>
                </a:lnTo>
                <a:close/>
              </a:path>
              <a:path fill="darken" w="48263" h="21600">
                <a:moveTo>
                  <a:pt x="48263" y="0"/>
                </a:moveTo>
                <a:lnTo>
                  <a:pt x="48263" y="21600"/>
                </a:lnTo>
                <a:lnTo>
                  <a:pt x="46863" y="20200"/>
                </a:lnTo>
                <a:lnTo>
                  <a:pt x="46863" y="1400"/>
                </a:lnTo>
                <a:close/>
              </a:path>
              <a:path fill="darkenLess" w="48263" h="21600">
                <a:moveTo>
                  <a:pt x="48263" y="21600"/>
                </a:moveTo>
                <a:lnTo>
                  <a:pt x="0" y="21600"/>
                </a:lnTo>
                <a:lnTo>
                  <a:pt x="1400" y="20200"/>
                </a:lnTo>
                <a:lnTo>
                  <a:pt x="46863" y="20200"/>
                </a:lnTo>
                <a:close/>
              </a:path>
              <a:path fill="lighten" w="48263" h="21600">
                <a:moveTo>
                  <a:pt x="0" y="21600"/>
                </a:moveTo>
                <a:lnTo>
                  <a:pt x="0" y="0"/>
                </a:lnTo>
                <a:lnTo>
                  <a:pt x="1400" y="1400"/>
                </a:lnTo>
                <a:lnTo>
                  <a:pt x="1400" y="20200"/>
                </a:lnTo>
                <a:close/>
              </a:path>
              <a:path fill="darken" w="48263" h="21600">
                <a:moveTo>
                  <a:pt x="17125" y="10800"/>
                </a:moveTo>
                <a:lnTo>
                  <a:pt x="31138" y="3794"/>
                </a:lnTo>
                <a:lnTo>
                  <a:pt x="3113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a:hlinkClick r:id="" action="ppaction://hlinkshowjump?jump=nextslide"/>
          </p:cNvPr>
          <p:cNvSpPr/>
          <p:nvPr/>
        </p:nvSpPr>
        <p:spPr>
          <a:xfrm>
            <a:off x="7451640" y="6165720"/>
            <a:ext cx="1297080" cy="405000"/>
          </a:xfrm>
          <a:custGeom>
            <a:avLst/>
            <a:gdLst>
              <a:gd name="textAreaLeft" fmla="*/ 25920 w 1297080"/>
              <a:gd name="textAreaRight" fmla="*/ 1271160 w 1297080"/>
              <a:gd name="textAreaTop" fmla="*/ 25920 h 405000"/>
              <a:gd name="textAreaBottom" fmla="*/ 379080 h 405000"/>
            </a:gdLst>
            <a:ahLst/>
            <a:rect l="textAreaLeft" t="textAreaTop" r="textAreaRight" b="textAreaBottom"/>
            <a:pathLst>
              <a:path w="69135" h="21600">
                <a:moveTo>
                  <a:pt x="0" y="0"/>
                </a:moveTo>
                <a:lnTo>
                  <a:pt x="69135" y="0"/>
                </a:lnTo>
                <a:lnTo>
                  <a:pt x="69135" y="21600"/>
                </a:lnTo>
                <a:lnTo>
                  <a:pt x="0" y="21600"/>
                </a:lnTo>
                <a:close/>
              </a:path>
              <a:path fill="lightenLess" w="69135" h="21600">
                <a:moveTo>
                  <a:pt x="0" y="0"/>
                </a:moveTo>
                <a:lnTo>
                  <a:pt x="69135" y="0"/>
                </a:lnTo>
                <a:lnTo>
                  <a:pt x="67735" y="1400"/>
                </a:lnTo>
                <a:lnTo>
                  <a:pt x="1400" y="1400"/>
                </a:lnTo>
                <a:close/>
              </a:path>
              <a:path fill="darken" w="69135" h="21600">
                <a:moveTo>
                  <a:pt x="69135" y="0"/>
                </a:moveTo>
                <a:lnTo>
                  <a:pt x="69135" y="21600"/>
                </a:lnTo>
                <a:lnTo>
                  <a:pt x="67735" y="20200"/>
                </a:lnTo>
                <a:lnTo>
                  <a:pt x="67735" y="1400"/>
                </a:lnTo>
                <a:close/>
              </a:path>
              <a:path fill="darkenLess" w="69135" h="21600">
                <a:moveTo>
                  <a:pt x="69135" y="21600"/>
                </a:moveTo>
                <a:lnTo>
                  <a:pt x="0" y="21600"/>
                </a:lnTo>
                <a:lnTo>
                  <a:pt x="1400" y="20200"/>
                </a:lnTo>
                <a:lnTo>
                  <a:pt x="67735" y="20200"/>
                </a:lnTo>
                <a:close/>
              </a:path>
              <a:path fill="lighten" w="69135" h="21600">
                <a:moveTo>
                  <a:pt x="0" y="21600"/>
                </a:moveTo>
                <a:lnTo>
                  <a:pt x="0" y="0"/>
                </a:lnTo>
                <a:lnTo>
                  <a:pt x="1400" y="1400"/>
                </a:lnTo>
                <a:lnTo>
                  <a:pt x="1400" y="20200"/>
                </a:lnTo>
                <a:close/>
              </a:path>
              <a:path fill="darken" w="69135" h="21600">
                <a:moveTo>
                  <a:pt x="27561" y="3794"/>
                </a:moveTo>
                <a:lnTo>
                  <a:pt x="41574" y="10800"/>
                </a:lnTo>
                <a:lnTo>
                  <a:pt x="275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4EE46EC-B7F3-452B-B0A6-5967F968083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INTRODUCCION</a:t>
            </a:r>
            <a:endParaRPr b="0" lang="en-US" sz="4400" spc="-1" strike="noStrike">
              <a:solidFill>
                <a:srgbClr val="000000"/>
              </a:solidFill>
              <a:latin typeface="Arial"/>
            </a:endParaRPr>
          </a:p>
        </p:txBody>
      </p:sp>
      <p:sp>
        <p:nvSpPr>
          <p:cNvPr id="53" name="PlaceHolder 2"/>
          <p:cNvSpPr>
            <a:spLocks noGrp="1"/>
          </p:cNvSpPr>
          <p:nvPr>
            <p:ph/>
          </p:nvPr>
        </p:nvSpPr>
        <p:spPr>
          <a:xfrm>
            <a:off x="468360" y="233208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STE PROYECTO ES HECHO PARA LA PRACTICA DE LO QUE HE APRENDIDO ADEMAS CON ESTE PUEDO SONORIZAR Y USARLO, POR EJEMPLO, EN CUALQUIER EVENTO.</a:t>
            </a:r>
            <a:endParaRPr b="0" lang="en-US" sz="3200" spc="-1" strike="noStrike">
              <a:solidFill>
                <a:srgbClr val="000000"/>
              </a:solidFill>
              <a:latin typeface="Arial"/>
            </a:endParaRPr>
          </a:p>
        </p:txBody>
      </p:sp>
      <p:sp>
        <p:nvSpPr>
          <p:cNvPr id="54" name="">
            <a:hlinkClick r:id="" action="ppaction://hlinkshowjump?jump=previousslide"/>
          </p:cNvPr>
          <p:cNvSpPr/>
          <p:nvPr/>
        </p:nvSpPr>
        <p:spPr>
          <a:xfrm>
            <a:off x="250920" y="6165720"/>
            <a:ext cx="1042920" cy="466920"/>
          </a:xfrm>
          <a:custGeom>
            <a:avLst/>
            <a:gdLst>
              <a:gd name="textAreaLeft" fmla="*/ 30240 w 1042920"/>
              <a:gd name="textAreaRight" fmla="*/ 1012680 w 1042920"/>
              <a:gd name="textAreaTop" fmla="*/ 30240 h 466920"/>
              <a:gd name="textAreaBottom" fmla="*/ 436680 h 466920"/>
            </a:gdLst>
            <a:ahLst/>
            <a:rect l="textAreaLeft" t="textAreaTop" r="textAreaRight" b="textAreaBottom"/>
            <a:pathLst>
              <a:path w="48226" h="21600">
                <a:moveTo>
                  <a:pt x="0" y="0"/>
                </a:moveTo>
                <a:lnTo>
                  <a:pt x="48226" y="0"/>
                </a:lnTo>
                <a:lnTo>
                  <a:pt x="48226" y="21600"/>
                </a:lnTo>
                <a:lnTo>
                  <a:pt x="0" y="21600"/>
                </a:lnTo>
                <a:close/>
              </a:path>
              <a:path fill="lightenLess" w="48226" h="21600">
                <a:moveTo>
                  <a:pt x="0" y="0"/>
                </a:moveTo>
                <a:lnTo>
                  <a:pt x="48226" y="0"/>
                </a:lnTo>
                <a:lnTo>
                  <a:pt x="46826" y="1400"/>
                </a:lnTo>
                <a:lnTo>
                  <a:pt x="1400" y="1400"/>
                </a:lnTo>
                <a:close/>
              </a:path>
              <a:path fill="darken" w="48226" h="21600">
                <a:moveTo>
                  <a:pt x="48226" y="0"/>
                </a:moveTo>
                <a:lnTo>
                  <a:pt x="48226" y="21600"/>
                </a:lnTo>
                <a:lnTo>
                  <a:pt x="46826" y="20200"/>
                </a:lnTo>
                <a:lnTo>
                  <a:pt x="46826" y="1400"/>
                </a:lnTo>
                <a:close/>
              </a:path>
              <a:path fill="darkenLess" w="48226" h="21600">
                <a:moveTo>
                  <a:pt x="48226" y="21600"/>
                </a:moveTo>
                <a:lnTo>
                  <a:pt x="0" y="21600"/>
                </a:lnTo>
                <a:lnTo>
                  <a:pt x="1400" y="20200"/>
                </a:lnTo>
                <a:lnTo>
                  <a:pt x="46826" y="20200"/>
                </a:lnTo>
                <a:close/>
              </a:path>
              <a:path fill="lighten" w="48226" h="21600">
                <a:moveTo>
                  <a:pt x="0" y="21600"/>
                </a:moveTo>
                <a:lnTo>
                  <a:pt x="0" y="0"/>
                </a:lnTo>
                <a:lnTo>
                  <a:pt x="1400" y="1400"/>
                </a:lnTo>
                <a:lnTo>
                  <a:pt x="1400" y="20200"/>
                </a:lnTo>
                <a:close/>
              </a:path>
              <a:path fill="darken" w="48226" h="21600">
                <a:moveTo>
                  <a:pt x="17106" y="10800"/>
                </a:moveTo>
                <a:lnTo>
                  <a:pt x="31119" y="3794"/>
                </a:lnTo>
                <a:lnTo>
                  <a:pt x="3111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a:hlinkClick r:id="" action="ppaction://hlinkshowjump?jump=nextslide"/>
          </p:cNvPr>
          <p:cNvSpPr/>
          <p:nvPr/>
        </p:nvSpPr>
        <p:spPr>
          <a:xfrm>
            <a:off x="7451640" y="6093000"/>
            <a:ext cx="1297080" cy="404640"/>
          </a:xfrm>
          <a:custGeom>
            <a:avLst/>
            <a:gdLst>
              <a:gd name="textAreaLeft" fmla="*/ 25920 w 1297080"/>
              <a:gd name="textAreaRight" fmla="*/ 1271160 w 1297080"/>
              <a:gd name="textAreaTop" fmla="*/ 25920 h 404640"/>
              <a:gd name="textAreaBottom" fmla="*/ 378720 h 404640"/>
            </a:gdLst>
            <a:ahLst/>
            <a:rect l="textAreaLeft" t="textAreaTop" r="textAreaRight" b="textAreaBottom"/>
            <a:pathLst>
              <a:path w="69197" h="21600">
                <a:moveTo>
                  <a:pt x="0" y="0"/>
                </a:moveTo>
                <a:lnTo>
                  <a:pt x="69197" y="0"/>
                </a:lnTo>
                <a:lnTo>
                  <a:pt x="69197" y="21600"/>
                </a:lnTo>
                <a:lnTo>
                  <a:pt x="0" y="21600"/>
                </a:lnTo>
                <a:close/>
              </a:path>
              <a:path fill="lightenLess" w="69197" h="21600">
                <a:moveTo>
                  <a:pt x="0" y="0"/>
                </a:moveTo>
                <a:lnTo>
                  <a:pt x="69197" y="0"/>
                </a:lnTo>
                <a:lnTo>
                  <a:pt x="67797" y="1400"/>
                </a:lnTo>
                <a:lnTo>
                  <a:pt x="1400" y="1400"/>
                </a:lnTo>
                <a:close/>
              </a:path>
              <a:path fill="darken" w="69197" h="21600">
                <a:moveTo>
                  <a:pt x="69197" y="0"/>
                </a:moveTo>
                <a:lnTo>
                  <a:pt x="69197" y="21600"/>
                </a:lnTo>
                <a:lnTo>
                  <a:pt x="67797" y="20200"/>
                </a:lnTo>
                <a:lnTo>
                  <a:pt x="67797" y="1400"/>
                </a:lnTo>
                <a:close/>
              </a:path>
              <a:path fill="darkenLess" w="69197" h="21600">
                <a:moveTo>
                  <a:pt x="69197" y="21600"/>
                </a:moveTo>
                <a:lnTo>
                  <a:pt x="0" y="21600"/>
                </a:lnTo>
                <a:lnTo>
                  <a:pt x="1400" y="20200"/>
                </a:lnTo>
                <a:lnTo>
                  <a:pt x="67797" y="20200"/>
                </a:lnTo>
                <a:close/>
              </a:path>
              <a:path fill="lighten" w="69197" h="21600">
                <a:moveTo>
                  <a:pt x="0" y="21600"/>
                </a:moveTo>
                <a:lnTo>
                  <a:pt x="0" y="0"/>
                </a:lnTo>
                <a:lnTo>
                  <a:pt x="1400" y="1400"/>
                </a:lnTo>
                <a:lnTo>
                  <a:pt x="1400" y="20200"/>
                </a:lnTo>
                <a:close/>
              </a:path>
              <a:path fill="darken" w="69197" h="21600">
                <a:moveTo>
                  <a:pt x="27592" y="3794"/>
                </a:moveTo>
                <a:lnTo>
                  <a:pt x="41605" y="10800"/>
                </a:lnTo>
                <a:lnTo>
                  <a:pt x="2759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a:hlinkClick r:id="rId2" action="ppaction://hlinksldjump"/>
          </p:cNvPr>
          <p:cNvSpPr/>
          <p:nvPr/>
        </p:nvSpPr>
        <p:spPr>
          <a:xfrm>
            <a:off x="3780000" y="6165720"/>
            <a:ext cx="1439640" cy="393840"/>
          </a:xfrm>
          <a:custGeom>
            <a:avLst/>
            <a:gdLst>
              <a:gd name="textAreaLeft" fmla="*/ 25200 w 1439640"/>
              <a:gd name="textAreaRight" fmla="*/ 1414440 w 1439640"/>
              <a:gd name="textAreaTop" fmla="*/ 25200 h 393840"/>
              <a:gd name="textAreaBottom" fmla="*/ 368640 h 393840"/>
            </a:gdLst>
            <a:ahLst/>
            <a:rect l="textAreaLeft" t="textAreaTop" r="textAreaRight" b="textAreaBottom"/>
            <a:pathLst>
              <a:path w="78904" h="21600">
                <a:moveTo>
                  <a:pt x="0" y="0"/>
                </a:moveTo>
                <a:lnTo>
                  <a:pt x="78904" y="0"/>
                </a:lnTo>
                <a:lnTo>
                  <a:pt x="78904" y="21600"/>
                </a:lnTo>
                <a:lnTo>
                  <a:pt x="0" y="21600"/>
                </a:lnTo>
                <a:close/>
              </a:path>
              <a:path fill="lightenLess" w="78904" h="21600">
                <a:moveTo>
                  <a:pt x="0" y="0"/>
                </a:moveTo>
                <a:lnTo>
                  <a:pt x="78904" y="0"/>
                </a:lnTo>
                <a:lnTo>
                  <a:pt x="77504" y="1400"/>
                </a:lnTo>
                <a:lnTo>
                  <a:pt x="1400" y="1400"/>
                </a:lnTo>
                <a:close/>
              </a:path>
              <a:path fill="darken" w="78904" h="21600">
                <a:moveTo>
                  <a:pt x="78904" y="0"/>
                </a:moveTo>
                <a:lnTo>
                  <a:pt x="78904" y="21600"/>
                </a:lnTo>
                <a:lnTo>
                  <a:pt x="77504" y="20200"/>
                </a:lnTo>
                <a:lnTo>
                  <a:pt x="77504" y="1400"/>
                </a:lnTo>
                <a:close/>
              </a:path>
              <a:path fill="darkenLess" w="78904" h="21600">
                <a:moveTo>
                  <a:pt x="78904" y="21600"/>
                </a:moveTo>
                <a:lnTo>
                  <a:pt x="0" y="21600"/>
                </a:lnTo>
                <a:lnTo>
                  <a:pt x="1400" y="20200"/>
                </a:lnTo>
                <a:lnTo>
                  <a:pt x="77504" y="20200"/>
                </a:lnTo>
                <a:close/>
              </a:path>
              <a:path fill="lighten" w="78904" h="21600">
                <a:moveTo>
                  <a:pt x="0" y="21600"/>
                </a:moveTo>
                <a:lnTo>
                  <a:pt x="0" y="0"/>
                </a:lnTo>
                <a:lnTo>
                  <a:pt x="1400" y="1400"/>
                </a:lnTo>
                <a:lnTo>
                  <a:pt x="1400" y="20200"/>
                </a:lnTo>
                <a:close/>
              </a:path>
              <a:path fill="darken" w="78904" h="21600">
                <a:moveTo>
                  <a:pt x="32446" y="7493"/>
                </a:moveTo>
                <a:lnTo>
                  <a:pt x="35953" y="7493"/>
                </a:lnTo>
                <a:lnTo>
                  <a:pt x="35953" y="12828"/>
                </a:lnTo>
                <a:cubicBezTo>
                  <a:pt x="35953" y="13751"/>
                  <a:pt x="36754" y="14482"/>
                  <a:pt x="37790" y="14482"/>
                </a:cubicBezTo>
                <a:lnTo>
                  <a:pt x="39452" y="14482"/>
                </a:lnTo>
                <a:cubicBezTo>
                  <a:pt x="40488" y="14482"/>
                  <a:pt x="41289" y="13751"/>
                  <a:pt x="41289" y="12828"/>
                </a:cubicBezTo>
                <a:lnTo>
                  <a:pt x="41289" y="7493"/>
                </a:lnTo>
                <a:lnTo>
                  <a:pt x="39452" y="7493"/>
                </a:lnTo>
                <a:lnTo>
                  <a:pt x="42960" y="3985"/>
                </a:lnTo>
                <a:lnTo>
                  <a:pt x="46633" y="7493"/>
                </a:lnTo>
                <a:lnTo>
                  <a:pt x="44796" y="7493"/>
                </a:lnTo>
                <a:lnTo>
                  <a:pt x="44796" y="12828"/>
                </a:lnTo>
                <a:cubicBezTo>
                  <a:pt x="44796" y="15596"/>
                  <a:pt x="42220" y="18155"/>
                  <a:pt x="39452" y="18155"/>
                </a:cubicBezTo>
                <a:lnTo>
                  <a:pt x="37790" y="18155"/>
                </a:lnTo>
                <a:cubicBezTo>
                  <a:pt x="35022" y="18155"/>
                  <a:pt x="32446" y="15596"/>
                  <a:pt x="32446"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35686BE-4B3C-4865-80C2-16FA1B94A2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8c3d91"/>
            </a:gs>
            <a:gs pos="100000">
              <a:srgbClr val="000000"/>
            </a:gs>
          </a:gsLst>
          <a:lin ang="108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Arial"/>
              </a:rPr>
              <a:t>OBJETIVO</a:t>
            </a:r>
            <a:endParaRPr b="0" lang="en-US" sz="4400" spc="-1" strike="noStrike">
              <a:solidFill>
                <a:srgbClr val="000000"/>
              </a:solidFill>
              <a:latin typeface="Arial"/>
            </a:endParaRPr>
          </a:p>
        </p:txBody>
      </p:sp>
      <p:sp>
        <p:nvSpPr>
          <p:cNvPr id="58" name="PlaceHolder 2"/>
          <p:cNvSpPr>
            <a:spLocks noGrp="1"/>
          </p:cNvSpPr>
          <p:nvPr>
            <p:ph/>
          </p:nvPr>
        </p:nvSpPr>
        <p:spPr>
          <a:xfrm>
            <a:off x="468360" y="233208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SONORIZAR PARA UNA FIESTA PERO SE PUEDE USAR PARA TODO TIPO DE EVENTO.</a:t>
            </a:r>
            <a:endParaRPr b="0" lang="en-US" sz="3200" spc="-1" strike="noStrike">
              <a:solidFill>
                <a:srgbClr val="000000"/>
              </a:solidFill>
              <a:latin typeface="Arial"/>
            </a:endParaRPr>
          </a:p>
        </p:txBody>
      </p:sp>
      <p:sp>
        <p:nvSpPr>
          <p:cNvPr id="59" name="">
            <a:hlinkClick r:id="" action="ppaction://hlinkshowjump?jump=previousslide"/>
          </p:cNvPr>
          <p:cNvSpPr/>
          <p:nvPr/>
        </p:nvSpPr>
        <p:spPr>
          <a:xfrm>
            <a:off x="250920" y="6165720"/>
            <a:ext cx="1042920" cy="466920"/>
          </a:xfrm>
          <a:custGeom>
            <a:avLst/>
            <a:gdLst>
              <a:gd name="textAreaLeft" fmla="*/ 30240 w 1042920"/>
              <a:gd name="textAreaRight" fmla="*/ 1012680 w 1042920"/>
              <a:gd name="textAreaTop" fmla="*/ 30240 h 466920"/>
              <a:gd name="textAreaBottom" fmla="*/ 436680 h 466920"/>
            </a:gdLst>
            <a:ahLst/>
            <a:rect l="textAreaLeft" t="textAreaTop" r="textAreaRight" b="textAreaBottom"/>
            <a:pathLst>
              <a:path w="48226" h="21600">
                <a:moveTo>
                  <a:pt x="0" y="0"/>
                </a:moveTo>
                <a:lnTo>
                  <a:pt x="48226" y="0"/>
                </a:lnTo>
                <a:lnTo>
                  <a:pt x="48226" y="21600"/>
                </a:lnTo>
                <a:lnTo>
                  <a:pt x="0" y="21600"/>
                </a:lnTo>
                <a:close/>
              </a:path>
              <a:path fill="lightenLess" w="48226" h="21600">
                <a:moveTo>
                  <a:pt x="0" y="0"/>
                </a:moveTo>
                <a:lnTo>
                  <a:pt x="48226" y="0"/>
                </a:lnTo>
                <a:lnTo>
                  <a:pt x="46826" y="1400"/>
                </a:lnTo>
                <a:lnTo>
                  <a:pt x="1400" y="1400"/>
                </a:lnTo>
                <a:close/>
              </a:path>
              <a:path fill="darken" w="48226" h="21600">
                <a:moveTo>
                  <a:pt x="48226" y="0"/>
                </a:moveTo>
                <a:lnTo>
                  <a:pt x="48226" y="21600"/>
                </a:lnTo>
                <a:lnTo>
                  <a:pt x="46826" y="20200"/>
                </a:lnTo>
                <a:lnTo>
                  <a:pt x="46826" y="1400"/>
                </a:lnTo>
                <a:close/>
              </a:path>
              <a:path fill="darkenLess" w="48226" h="21600">
                <a:moveTo>
                  <a:pt x="48226" y="21600"/>
                </a:moveTo>
                <a:lnTo>
                  <a:pt x="0" y="21600"/>
                </a:lnTo>
                <a:lnTo>
                  <a:pt x="1400" y="20200"/>
                </a:lnTo>
                <a:lnTo>
                  <a:pt x="46826" y="20200"/>
                </a:lnTo>
                <a:close/>
              </a:path>
              <a:path fill="lighten" w="48226" h="21600">
                <a:moveTo>
                  <a:pt x="0" y="21600"/>
                </a:moveTo>
                <a:lnTo>
                  <a:pt x="0" y="0"/>
                </a:lnTo>
                <a:lnTo>
                  <a:pt x="1400" y="1400"/>
                </a:lnTo>
                <a:lnTo>
                  <a:pt x="1400" y="20200"/>
                </a:lnTo>
                <a:close/>
              </a:path>
              <a:path fill="darken" w="48226" h="21600">
                <a:moveTo>
                  <a:pt x="17106" y="10800"/>
                </a:moveTo>
                <a:lnTo>
                  <a:pt x="31119" y="3794"/>
                </a:lnTo>
                <a:lnTo>
                  <a:pt x="3111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a:hlinkClick r:id="" action="ppaction://hlinkshowjump?jump=nextslide"/>
          </p:cNvPr>
          <p:cNvSpPr/>
          <p:nvPr/>
        </p:nvSpPr>
        <p:spPr>
          <a:xfrm>
            <a:off x="7451640" y="6165720"/>
            <a:ext cx="1297080" cy="405000"/>
          </a:xfrm>
          <a:custGeom>
            <a:avLst/>
            <a:gdLst>
              <a:gd name="textAreaLeft" fmla="*/ 25920 w 1297080"/>
              <a:gd name="textAreaRight" fmla="*/ 1271160 w 1297080"/>
              <a:gd name="textAreaTop" fmla="*/ 25920 h 405000"/>
              <a:gd name="textAreaBottom" fmla="*/ 379080 h 405000"/>
            </a:gdLst>
            <a:ahLst/>
            <a:rect l="textAreaLeft" t="textAreaTop" r="textAreaRight" b="textAreaBottom"/>
            <a:pathLst>
              <a:path w="69135" h="21600">
                <a:moveTo>
                  <a:pt x="0" y="0"/>
                </a:moveTo>
                <a:lnTo>
                  <a:pt x="69135" y="0"/>
                </a:lnTo>
                <a:lnTo>
                  <a:pt x="69135" y="21600"/>
                </a:lnTo>
                <a:lnTo>
                  <a:pt x="0" y="21600"/>
                </a:lnTo>
                <a:close/>
              </a:path>
              <a:path fill="lightenLess" w="69135" h="21600">
                <a:moveTo>
                  <a:pt x="0" y="0"/>
                </a:moveTo>
                <a:lnTo>
                  <a:pt x="69135" y="0"/>
                </a:lnTo>
                <a:lnTo>
                  <a:pt x="67735" y="1400"/>
                </a:lnTo>
                <a:lnTo>
                  <a:pt x="1400" y="1400"/>
                </a:lnTo>
                <a:close/>
              </a:path>
              <a:path fill="darken" w="69135" h="21600">
                <a:moveTo>
                  <a:pt x="69135" y="0"/>
                </a:moveTo>
                <a:lnTo>
                  <a:pt x="69135" y="21600"/>
                </a:lnTo>
                <a:lnTo>
                  <a:pt x="67735" y="20200"/>
                </a:lnTo>
                <a:lnTo>
                  <a:pt x="67735" y="1400"/>
                </a:lnTo>
                <a:close/>
              </a:path>
              <a:path fill="darkenLess" w="69135" h="21600">
                <a:moveTo>
                  <a:pt x="69135" y="21600"/>
                </a:moveTo>
                <a:lnTo>
                  <a:pt x="0" y="21600"/>
                </a:lnTo>
                <a:lnTo>
                  <a:pt x="1400" y="20200"/>
                </a:lnTo>
                <a:lnTo>
                  <a:pt x="67735" y="20200"/>
                </a:lnTo>
                <a:close/>
              </a:path>
              <a:path fill="lighten" w="69135" h="21600">
                <a:moveTo>
                  <a:pt x="0" y="21600"/>
                </a:moveTo>
                <a:lnTo>
                  <a:pt x="0" y="0"/>
                </a:lnTo>
                <a:lnTo>
                  <a:pt x="1400" y="1400"/>
                </a:lnTo>
                <a:lnTo>
                  <a:pt x="1400" y="20200"/>
                </a:lnTo>
                <a:close/>
              </a:path>
              <a:path fill="darken" w="69135" h="21600">
                <a:moveTo>
                  <a:pt x="27561" y="3794"/>
                </a:moveTo>
                <a:lnTo>
                  <a:pt x="41574" y="10800"/>
                </a:lnTo>
                <a:lnTo>
                  <a:pt x="275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a:hlinkClick r:id="rId2" action="ppaction://hlinksldjump"/>
          </p:cNvPr>
          <p:cNvSpPr/>
          <p:nvPr/>
        </p:nvSpPr>
        <p:spPr>
          <a:xfrm>
            <a:off x="3851280" y="6165720"/>
            <a:ext cx="1440000" cy="393840"/>
          </a:xfrm>
          <a:custGeom>
            <a:avLst/>
            <a:gdLst>
              <a:gd name="textAreaLeft" fmla="*/ 25200 w 1440000"/>
              <a:gd name="textAreaRight" fmla="*/ 1414800 w 1440000"/>
              <a:gd name="textAreaTop" fmla="*/ 25200 h 393840"/>
              <a:gd name="textAreaBottom" fmla="*/ 368640 h 393840"/>
            </a:gdLst>
            <a:ahLst/>
            <a:rect l="textAreaLeft" t="textAreaTop" r="textAreaRight" b="textAreaBottom"/>
            <a:pathLst>
              <a:path w="78924" h="21600">
                <a:moveTo>
                  <a:pt x="0" y="0"/>
                </a:moveTo>
                <a:lnTo>
                  <a:pt x="78924" y="0"/>
                </a:lnTo>
                <a:lnTo>
                  <a:pt x="78924" y="21600"/>
                </a:lnTo>
                <a:lnTo>
                  <a:pt x="0" y="21600"/>
                </a:lnTo>
                <a:close/>
              </a:path>
              <a:path fill="lightenLess" w="78924" h="21600">
                <a:moveTo>
                  <a:pt x="0" y="0"/>
                </a:moveTo>
                <a:lnTo>
                  <a:pt x="78924" y="0"/>
                </a:lnTo>
                <a:lnTo>
                  <a:pt x="77524" y="1400"/>
                </a:lnTo>
                <a:lnTo>
                  <a:pt x="1400" y="1400"/>
                </a:lnTo>
                <a:close/>
              </a:path>
              <a:path fill="darken" w="78924" h="21600">
                <a:moveTo>
                  <a:pt x="78924" y="0"/>
                </a:moveTo>
                <a:lnTo>
                  <a:pt x="78924" y="21600"/>
                </a:lnTo>
                <a:lnTo>
                  <a:pt x="77524" y="20200"/>
                </a:lnTo>
                <a:lnTo>
                  <a:pt x="77524" y="1400"/>
                </a:lnTo>
                <a:close/>
              </a:path>
              <a:path fill="darkenLess" w="78924" h="21600">
                <a:moveTo>
                  <a:pt x="78924" y="21600"/>
                </a:moveTo>
                <a:lnTo>
                  <a:pt x="0" y="21600"/>
                </a:lnTo>
                <a:lnTo>
                  <a:pt x="1400" y="20200"/>
                </a:lnTo>
                <a:lnTo>
                  <a:pt x="77524" y="20200"/>
                </a:lnTo>
                <a:close/>
              </a:path>
              <a:path fill="lighten" w="78924" h="21600">
                <a:moveTo>
                  <a:pt x="0" y="21600"/>
                </a:moveTo>
                <a:lnTo>
                  <a:pt x="0" y="0"/>
                </a:lnTo>
                <a:lnTo>
                  <a:pt x="1400" y="1400"/>
                </a:lnTo>
                <a:lnTo>
                  <a:pt x="1400" y="20200"/>
                </a:lnTo>
                <a:close/>
              </a:path>
              <a:path fill="darken" w="78924" h="21600">
                <a:moveTo>
                  <a:pt x="32455" y="7493"/>
                </a:moveTo>
                <a:lnTo>
                  <a:pt x="35963" y="7493"/>
                </a:lnTo>
                <a:lnTo>
                  <a:pt x="35963" y="12828"/>
                </a:lnTo>
                <a:cubicBezTo>
                  <a:pt x="35963" y="13751"/>
                  <a:pt x="36764" y="14482"/>
                  <a:pt x="37800" y="14482"/>
                </a:cubicBezTo>
                <a:lnTo>
                  <a:pt x="39462" y="14482"/>
                </a:lnTo>
                <a:cubicBezTo>
                  <a:pt x="40498" y="14482"/>
                  <a:pt x="41298" y="13751"/>
                  <a:pt x="41298" y="12828"/>
                </a:cubicBezTo>
                <a:lnTo>
                  <a:pt x="41298" y="7493"/>
                </a:lnTo>
                <a:lnTo>
                  <a:pt x="39462" y="7493"/>
                </a:lnTo>
                <a:lnTo>
                  <a:pt x="42970" y="3985"/>
                </a:lnTo>
                <a:lnTo>
                  <a:pt x="46642" y="7493"/>
                </a:lnTo>
                <a:lnTo>
                  <a:pt x="44806" y="7493"/>
                </a:lnTo>
                <a:lnTo>
                  <a:pt x="44806" y="12828"/>
                </a:lnTo>
                <a:cubicBezTo>
                  <a:pt x="44806" y="15596"/>
                  <a:pt x="42230" y="18155"/>
                  <a:pt x="39462" y="18155"/>
                </a:cubicBezTo>
                <a:lnTo>
                  <a:pt x="37800" y="18155"/>
                </a:lnTo>
                <a:cubicBezTo>
                  <a:pt x="35032" y="18155"/>
                  <a:pt x="32455" y="15596"/>
                  <a:pt x="32455"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4C6AC4C-A6DB-487A-BD9E-DA60EE1007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Arial"/>
              </a:rPr>
              <a:t>PROBLEMATIZACIÓN</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ALEXA* VA A HACER UNA FIESTA PERO SUS PAPÁS NO LE DEJARON OCUPAR EL ESTEREO Y COMO ELLA VA EN ELECTRONICA, DECIDIO INVESTIGAR Y HACER LA SONORIZACION.</a:t>
            </a:r>
            <a:endParaRPr b="0" lang="en-US" sz="3200" spc="-1" strike="noStrike">
              <a:solidFill>
                <a:srgbClr val="000000"/>
              </a:solidFill>
              <a:latin typeface="Arial"/>
            </a:endParaRPr>
          </a:p>
        </p:txBody>
      </p:sp>
      <p:sp>
        <p:nvSpPr>
          <p:cNvPr id="64" name="">
            <a:hlinkClick r:id="" action="ppaction://hlinkshowjump?jump=previousslide"/>
          </p:cNvPr>
          <p:cNvSpPr/>
          <p:nvPr/>
        </p:nvSpPr>
        <p:spPr>
          <a:xfrm>
            <a:off x="250920" y="6165720"/>
            <a:ext cx="1042920" cy="466920"/>
          </a:xfrm>
          <a:custGeom>
            <a:avLst/>
            <a:gdLst>
              <a:gd name="textAreaLeft" fmla="*/ 30240 w 1042920"/>
              <a:gd name="textAreaRight" fmla="*/ 1012680 w 1042920"/>
              <a:gd name="textAreaTop" fmla="*/ 30240 h 466920"/>
              <a:gd name="textAreaBottom" fmla="*/ 436680 h 466920"/>
            </a:gdLst>
            <a:ahLst/>
            <a:rect l="textAreaLeft" t="textAreaTop" r="textAreaRight" b="textAreaBottom"/>
            <a:pathLst>
              <a:path w="48226" h="21600">
                <a:moveTo>
                  <a:pt x="0" y="0"/>
                </a:moveTo>
                <a:lnTo>
                  <a:pt x="48226" y="0"/>
                </a:lnTo>
                <a:lnTo>
                  <a:pt x="48226" y="21600"/>
                </a:lnTo>
                <a:lnTo>
                  <a:pt x="0" y="21600"/>
                </a:lnTo>
                <a:close/>
              </a:path>
              <a:path fill="lightenLess" w="48226" h="21600">
                <a:moveTo>
                  <a:pt x="0" y="0"/>
                </a:moveTo>
                <a:lnTo>
                  <a:pt x="48226" y="0"/>
                </a:lnTo>
                <a:lnTo>
                  <a:pt x="46826" y="1400"/>
                </a:lnTo>
                <a:lnTo>
                  <a:pt x="1400" y="1400"/>
                </a:lnTo>
                <a:close/>
              </a:path>
              <a:path fill="darken" w="48226" h="21600">
                <a:moveTo>
                  <a:pt x="48226" y="0"/>
                </a:moveTo>
                <a:lnTo>
                  <a:pt x="48226" y="21600"/>
                </a:lnTo>
                <a:lnTo>
                  <a:pt x="46826" y="20200"/>
                </a:lnTo>
                <a:lnTo>
                  <a:pt x="46826" y="1400"/>
                </a:lnTo>
                <a:close/>
              </a:path>
              <a:path fill="darkenLess" w="48226" h="21600">
                <a:moveTo>
                  <a:pt x="48226" y="21600"/>
                </a:moveTo>
                <a:lnTo>
                  <a:pt x="0" y="21600"/>
                </a:lnTo>
                <a:lnTo>
                  <a:pt x="1400" y="20200"/>
                </a:lnTo>
                <a:lnTo>
                  <a:pt x="46826" y="20200"/>
                </a:lnTo>
                <a:close/>
              </a:path>
              <a:path fill="lighten" w="48226" h="21600">
                <a:moveTo>
                  <a:pt x="0" y="21600"/>
                </a:moveTo>
                <a:lnTo>
                  <a:pt x="0" y="0"/>
                </a:lnTo>
                <a:lnTo>
                  <a:pt x="1400" y="1400"/>
                </a:lnTo>
                <a:lnTo>
                  <a:pt x="1400" y="20200"/>
                </a:lnTo>
                <a:close/>
              </a:path>
              <a:path fill="darken" w="48226" h="21600">
                <a:moveTo>
                  <a:pt x="17106" y="10800"/>
                </a:moveTo>
                <a:lnTo>
                  <a:pt x="31119" y="3794"/>
                </a:lnTo>
                <a:lnTo>
                  <a:pt x="3111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a:hlinkClick r:id="" action="ppaction://hlinkshowjump?jump=nextslide"/>
          </p:cNvPr>
          <p:cNvSpPr/>
          <p:nvPr/>
        </p:nvSpPr>
        <p:spPr>
          <a:xfrm>
            <a:off x="7451640" y="6165720"/>
            <a:ext cx="1297080" cy="405000"/>
          </a:xfrm>
          <a:custGeom>
            <a:avLst/>
            <a:gdLst>
              <a:gd name="textAreaLeft" fmla="*/ 25920 w 1297080"/>
              <a:gd name="textAreaRight" fmla="*/ 1271160 w 1297080"/>
              <a:gd name="textAreaTop" fmla="*/ 25920 h 405000"/>
              <a:gd name="textAreaBottom" fmla="*/ 379080 h 405000"/>
            </a:gdLst>
            <a:ahLst/>
            <a:rect l="textAreaLeft" t="textAreaTop" r="textAreaRight" b="textAreaBottom"/>
            <a:pathLst>
              <a:path w="69135" h="21600">
                <a:moveTo>
                  <a:pt x="0" y="0"/>
                </a:moveTo>
                <a:lnTo>
                  <a:pt x="69135" y="0"/>
                </a:lnTo>
                <a:lnTo>
                  <a:pt x="69135" y="21600"/>
                </a:lnTo>
                <a:lnTo>
                  <a:pt x="0" y="21600"/>
                </a:lnTo>
                <a:close/>
              </a:path>
              <a:path fill="lightenLess" w="69135" h="21600">
                <a:moveTo>
                  <a:pt x="0" y="0"/>
                </a:moveTo>
                <a:lnTo>
                  <a:pt x="69135" y="0"/>
                </a:lnTo>
                <a:lnTo>
                  <a:pt x="67735" y="1400"/>
                </a:lnTo>
                <a:lnTo>
                  <a:pt x="1400" y="1400"/>
                </a:lnTo>
                <a:close/>
              </a:path>
              <a:path fill="darken" w="69135" h="21600">
                <a:moveTo>
                  <a:pt x="69135" y="0"/>
                </a:moveTo>
                <a:lnTo>
                  <a:pt x="69135" y="21600"/>
                </a:lnTo>
                <a:lnTo>
                  <a:pt x="67735" y="20200"/>
                </a:lnTo>
                <a:lnTo>
                  <a:pt x="67735" y="1400"/>
                </a:lnTo>
                <a:close/>
              </a:path>
              <a:path fill="darkenLess" w="69135" h="21600">
                <a:moveTo>
                  <a:pt x="69135" y="21600"/>
                </a:moveTo>
                <a:lnTo>
                  <a:pt x="0" y="21600"/>
                </a:lnTo>
                <a:lnTo>
                  <a:pt x="1400" y="20200"/>
                </a:lnTo>
                <a:lnTo>
                  <a:pt x="67735" y="20200"/>
                </a:lnTo>
                <a:close/>
              </a:path>
              <a:path fill="lighten" w="69135" h="21600">
                <a:moveTo>
                  <a:pt x="0" y="21600"/>
                </a:moveTo>
                <a:lnTo>
                  <a:pt x="0" y="0"/>
                </a:lnTo>
                <a:lnTo>
                  <a:pt x="1400" y="1400"/>
                </a:lnTo>
                <a:lnTo>
                  <a:pt x="1400" y="20200"/>
                </a:lnTo>
                <a:close/>
              </a:path>
              <a:path fill="darken" w="69135" h="21600">
                <a:moveTo>
                  <a:pt x="27561" y="3794"/>
                </a:moveTo>
                <a:lnTo>
                  <a:pt x="41574" y="10800"/>
                </a:lnTo>
                <a:lnTo>
                  <a:pt x="275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a:hlinkClick r:id="rId3" action="ppaction://hlinksldjump"/>
          </p:cNvPr>
          <p:cNvSpPr/>
          <p:nvPr/>
        </p:nvSpPr>
        <p:spPr>
          <a:xfrm>
            <a:off x="3851280" y="6165720"/>
            <a:ext cx="1440000" cy="393840"/>
          </a:xfrm>
          <a:custGeom>
            <a:avLst/>
            <a:gdLst>
              <a:gd name="textAreaLeft" fmla="*/ 25200 w 1440000"/>
              <a:gd name="textAreaRight" fmla="*/ 1414800 w 1440000"/>
              <a:gd name="textAreaTop" fmla="*/ 25200 h 393840"/>
              <a:gd name="textAreaBottom" fmla="*/ 368640 h 393840"/>
            </a:gdLst>
            <a:ahLst/>
            <a:rect l="textAreaLeft" t="textAreaTop" r="textAreaRight" b="textAreaBottom"/>
            <a:pathLst>
              <a:path w="78924" h="21600">
                <a:moveTo>
                  <a:pt x="0" y="0"/>
                </a:moveTo>
                <a:lnTo>
                  <a:pt x="78924" y="0"/>
                </a:lnTo>
                <a:lnTo>
                  <a:pt x="78924" y="21600"/>
                </a:lnTo>
                <a:lnTo>
                  <a:pt x="0" y="21600"/>
                </a:lnTo>
                <a:close/>
              </a:path>
              <a:path fill="lightenLess" w="78924" h="21600">
                <a:moveTo>
                  <a:pt x="0" y="0"/>
                </a:moveTo>
                <a:lnTo>
                  <a:pt x="78924" y="0"/>
                </a:lnTo>
                <a:lnTo>
                  <a:pt x="77524" y="1400"/>
                </a:lnTo>
                <a:lnTo>
                  <a:pt x="1400" y="1400"/>
                </a:lnTo>
                <a:close/>
              </a:path>
              <a:path fill="darken" w="78924" h="21600">
                <a:moveTo>
                  <a:pt x="78924" y="0"/>
                </a:moveTo>
                <a:lnTo>
                  <a:pt x="78924" y="21600"/>
                </a:lnTo>
                <a:lnTo>
                  <a:pt x="77524" y="20200"/>
                </a:lnTo>
                <a:lnTo>
                  <a:pt x="77524" y="1400"/>
                </a:lnTo>
                <a:close/>
              </a:path>
              <a:path fill="darkenLess" w="78924" h="21600">
                <a:moveTo>
                  <a:pt x="78924" y="21600"/>
                </a:moveTo>
                <a:lnTo>
                  <a:pt x="0" y="21600"/>
                </a:lnTo>
                <a:lnTo>
                  <a:pt x="1400" y="20200"/>
                </a:lnTo>
                <a:lnTo>
                  <a:pt x="77524" y="20200"/>
                </a:lnTo>
                <a:close/>
              </a:path>
              <a:path fill="lighten" w="78924" h="21600">
                <a:moveTo>
                  <a:pt x="0" y="21600"/>
                </a:moveTo>
                <a:lnTo>
                  <a:pt x="0" y="0"/>
                </a:lnTo>
                <a:lnTo>
                  <a:pt x="1400" y="1400"/>
                </a:lnTo>
                <a:lnTo>
                  <a:pt x="1400" y="20200"/>
                </a:lnTo>
                <a:close/>
              </a:path>
              <a:path fill="darken" w="78924" h="21600">
                <a:moveTo>
                  <a:pt x="32455" y="7493"/>
                </a:moveTo>
                <a:lnTo>
                  <a:pt x="35963" y="7493"/>
                </a:lnTo>
                <a:lnTo>
                  <a:pt x="35963" y="12828"/>
                </a:lnTo>
                <a:cubicBezTo>
                  <a:pt x="35963" y="13751"/>
                  <a:pt x="36764" y="14482"/>
                  <a:pt x="37800" y="14482"/>
                </a:cubicBezTo>
                <a:lnTo>
                  <a:pt x="39462" y="14482"/>
                </a:lnTo>
                <a:cubicBezTo>
                  <a:pt x="40498" y="14482"/>
                  <a:pt x="41298" y="13751"/>
                  <a:pt x="41298" y="12828"/>
                </a:cubicBezTo>
                <a:lnTo>
                  <a:pt x="41298" y="7493"/>
                </a:lnTo>
                <a:lnTo>
                  <a:pt x="39462" y="7493"/>
                </a:lnTo>
                <a:lnTo>
                  <a:pt x="42970" y="3985"/>
                </a:lnTo>
                <a:lnTo>
                  <a:pt x="46642" y="7493"/>
                </a:lnTo>
                <a:lnTo>
                  <a:pt x="44806" y="7493"/>
                </a:lnTo>
                <a:lnTo>
                  <a:pt x="44806" y="12828"/>
                </a:lnTo>
                <a:cubicBezTo>
                  <a:pt x="44806" y="15596"/>
                  <a:pt x="42230" y="18155"/>
                  <a:pt x="39462" y="18155"/>
                </a:cubicBezTo>
                <a:lnTo>
                  <a:pt x="37800" y="18155"/>
                </a:lnTo>
                <a:cubicBezTo>
                  <a:pt x="35032" y="18155"/>
                  <a:pt x="32455" y="15596"/>
                  <a:pt x="32455"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8248F96-A1C6-48AE-8E67-70DEB6FFA1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50000">
              <a:srgbClr val="ddebcf"/>
            </a:gs>
            <a:gs pos="100000">
              <a:srgbClr val="156b13"/>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PROBLEMA</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ONORIZAR (INVESTIGAR, CREAR, JUSTIFICAR, ETC.)</a:t>
            </a:r>
            <a:endParaRPr b="0" lang="en-US" sz="3200" spc="-1" strike="noStrike">
              <a:solidFill>
                <a:srgbClr val="000000"/>
              </a:solidFill>
              <a:latin typeface="Arial"/>
            </a:endParaRPr>
          </a:p>
        </p:txBody>
      </p:sp>
      <p:sp>
        <p:nvSpPr>
          <p:cNvPr id="69" name="">
            <a:hlinkClick r:id="" action="ppaction://hlinkshowjump?jump=previousslide"/>
          </p:cNvPr>
          <p:cNvSpPr/>
          <p:nvPr/>
        </p:nvSpPr>
        <p:spPr>
          <a:xfrm>
            <a:off x="250920" y="6165720"/>
            <a:ext cx="1042920" cy="466920"/>
          </a:xfrm>
          <a:custGeom>
            <a:avLst/>
            <a:gdLst>
              <a:gd name="textAreaLeft" fmla="*/ 30240 w 1042920"/>
              <a:gd name="textAreaRight" fmla="*/ 1012680 w 1042920"/>
              <a:gd name="textAreaTop" fmla="*/ 30240 h 466920"/>
              <a:gd name="textAreaBottom" fmla="*/ 436680 h 466920"/>
            </a:gdLst>
            <a:ahLst/>
            <a:rect l="textAreaLeft" t="textAreaTop" r="textAreaRight" b="textAreaBottom"/>
            <a:pathLst>
              <a:path w="48226" h="21600">
                <a:moveTo>
                  <a:pt x="0" y="0"/>
                </a:moveTo>
                <a:lnTo>
                  <a:pt x="48226" y="0"/>
                </a:lnTo>
                <a:lnTo>
                  <a:pt x="48226" y="21600"/>
                </a:lnTo>
                <a:lnTo>
                  <a:pt x="0" y="21600"/>
                </a:lnTo>
                <a:close/>
              </a:path>
              <a:path fill="lightenLess" w="48226" h="21600">
                <a:moveTo>
                  <a:pt x="0" y="0"/>
                </a:moveTo>
                <a:lnTo>
                  <a:pt x="48226" y="0"/>
                </a:lnTo>
                <a:lnTo>
                  <a:pt x="46826" y="1400"/>
                </a:lnTo>
                <a:lnTo>
                  <a:pt x="1400" y="1400"/>
                </a:lnTo>
                <a:close/>
              </a:path>
              <a:path fill="darken" w="48226" h="21600">
                <a:moveTo>
                  <a:pt x="48226" y="0"/>
                </a:moveTo>
                <a:lnTo>
                  <a:pt x="48226" y="21600"/>
                </a:lnTo>
                <a:lnTo>
                  <a:pt x="46826" y="20200"/>
                </a:lnTo>
                <a:lnTo>
                  <a:pt x="46826" y="1400"/>
                </a:lnTo>
                <a:close/>
              </a:path>
              <a:path fill="darkenLess" w="48226" h="21600">
                <a:moveTo>
                  <a:pt x="48226" y="21600"/>
                </a:moveTo>
                <a:lnTo>
                  <a:pt x="0" y="21600"/>
                </a:lnTo>
                <a:lnTo>
                  <a:pt x="1400" y="20200"/>
                </a:lnTo>
                <a:lnTo>
                  <a:pt x="46826" y="20200"/>
                </a:lnTo>
                <a:close/>
              </a:path>
              <a:path fill="lighten" w="48226" h="21600">
                <a:moveTo>
                  <a:pt x="0" y="21600"/>
                </a:moveTo>
                <a:lnTo>
                  <a:pt x="0" y="0"/>
                </a:lnTo>
                <a:lnTo>
                  <a:pt x="1400" y="1400"/>
                </a:lnTo>
                <a:lnTo>
                  <a:pt x="1400" y="20200"/>
                </a:lnTo>
                <a:close/>
              </a:path>
              <a:path fill="darken" w="48226" h="21600">
                <a:moveTo>
                  <a:pt x="17106" y="10800"/>
                </a:moveTo>
                <a:lnTo>
                  <a:pt x="31119" y="3794"/>
                </a:lnTo>
                <a:lnTo>
                  <a:pt x="3111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a:hlinkClick r:id="" action="ppaction://hlinkshowjump?jump=nextslide"/>
          </p:cNvPr>
          <p:cNvSpPr/>
          <p:nvPr/>
        </p:nvSpPr>
        <p:spPr>
          <a:xfrm>
            <a:off x="7451640" y="6165720"/>
            <a:ext cx="1297080" cy="405000"/>
          </a:xfrm>
          <a:custGeom>
            <a:avLst/>
            <a:gdLst>
              <a:gd name="textAreaLeft" fmla="*/ 25920 w 1297080"/>
              <a:gd name="textAreaRight" fmla="*/ 1271160 w 1297080"/>
              <a:gd name="textAreaTop" fmla="*/ 25920 h 405000"/>
              <a:gd name="textAreaBottom" fmla="*/ 379080 h 405000"/>
            </a:gdLst>
            <a:ahLst/>
            <a:rect l="textAreaLeft" t="textAreaTop" r="textAreaRight" b="textAreaBottom"/>
            <a:pathLst>
              <a:path w="69135" h="21600">
                <a:moveTo>
                  <a:pt x="0" y="0"/>
                </a:moveTo>
                <a:lnTo>
                  <a:pt x="69135" y="0"/>
                </a:lnTo>
                <a:lnTo>
                  <a:pt x="69135" y="21600"/>
                </a:lnTo>
                <a:lnTo>
                  <a:pt x="0" y="21600"/>
                </a:lnTo>
                <a:close/>
              </a:path>
              <a:path fill="lightenLess" w="69135" h="21600">
                <a:moveTo>
                  <a:pt x="0" y="0"/>
                </a:moveTo>
                <a:lnTo>
                  <a:pt x="69135" y="0"/>
                </a:lnTo>
                <a:lnTo>
                  <a:pt x="67735" y="1400"/>
                </a:lnTo>
                <a:lnTo>
                  <a:pt x="1400" y="1400"/>
                </a:lnTo>
                <a:close/>
              </a:path>
              <a:path fill="darken" w="69135" h="21600">
                <a:moveTo>
                  <a:pt x="69135" y="0"/>
                </a:moveTo>
                <a:lnTo>
                  <a:pt x="69135" y="21600"/>
                </a:lnTo>
                <a:lnTo>
                  <a:pt x="67735" y="20200"/>
                </a:lnTo>
                <a:lnTo>
                  <a:pt x="67735" y="1400"/>
                </a:lnTo>
                <a:close/>
              </a:path>
              <a:path fill="darkenLess" w="69135" h="21600">
                <a:moveTo>
                  <a:pt x="69135" y="21600"/>
                </a:moveTo>
                <a:lnTo>
                  <a:pt x="0" y="21600"/>
                </a:lnTo>
                <a:lnTo>
                  <a:pt x="1400" y="20200"/>
                </a:lnTo>
                <a:lnTo>
                  <a:pt x="67735" y="20200"/>
                </a:lnTo>
                <a:close/>
              </a:path>
              <a:path fill="lighten" w="69135" h="21600">
                <a:moveTo>
                  <a:pt x="0" y="21600"/>
                </a:moveTo>
                <a:lnTo>
                  <a:pt x="0" y="0"/>
                </a:lnTo>
                <a:lnTo>
                  <a:pt x="1400" y="1400"/>
                </a:lnTo>
                <a:lnTo>
                  <a:pt x="1400" y="20200"/>
                </a:lnTo>
                <a:close/>
              </a:path>
              <a:path fill="darken" w="69135" h="21600">
                <a:moveTo>
                  <a:pt x="27561" y="3794"/>
                </a:moveTo>
                <a:lnTo>
                  <a:pt x="41574" y="10800"/>
                </a:lnTo>
                <a:lnTo>
                  <a:pt x="275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a:hlinkClick r:id="rId2" action="ppaction://hlinksldjump"/>
          </p:cNvPr>
          <p:cNvSpPr/>
          <p:nvPr/>
        </p:nvSpPr>
        <p:spPr>
          <a:xfrm>
            <a:off x="3851280" y="6165720"/>
            <a:ext cx="1440000" cy="393840"/>
          </a:xfrm>
          <a:custGeom>
            <a:avLst/>
            <a:gdLst>
              <a:gd name="textAreaLeft" fmla="*/ 25200 w 1440000"/>
              <a:gd name="textAreaRight" fmla="*/ 1414800 w 1440000"/>
              <a:gd name="textAreaTop" fmla="*/ 25200 h 393840"/>
              <a:gd name="textAreaBottom" fmla="*/ 368640 h 393840"/>
            </a:gdLst>
            <a:ahLst/>
            <a:rect l="textAreaLeft" t="textAreaTop" r="textAreaRight" b="textAreaBottom"/>
            <a:pathLst>
              <a:path w="78924" h="21600">
                <a:moveTo>
                  <a:pt x="0" y="0"/>
                </a:moveTo>
                <a:lnTo>
                  <a:pt x="78924" y="0"/>
                </a:lnTo>
                <a:lnTo>
                  <a:pt x="78924" y="21600"/>
                </a:lnTo>
                <a:lnTo>
                  <a:pt x="0" y="21600"/>
                </a:lnTo>
                <a:close/>
              </a:path>
              <a:path fill="lightenLess" w="78924" h="21600">
                <a:moveTo>
                  <a:pt x="0" y="0"/>
                </a:moveTo>
                <a:lnTo>
                  <a:pt x="78924" y="0"/>
                </a:lnTo>
                <a:lnTo>
                  <a:pt x="77524" y="1400"/>
                </a:lnTo>
                <a:lnTo>
                  <a:pt x="1400" y="1400"/>
                </a:lnTo>
                <a:close/>
              </a:path>
              <a:path fill="darken" w="78924" h="21600">
                <a:moveTo>
                  <a:pt x="78924" y="0"/>
                </a:moveTo>
                <a:lnTo>
                  <a:pt x="78924" y="21600"/>
                </a:lnTo>
                <a:lnTo>
                  <a:pt x="77524" y="20200"/>
                </a:lnTo>
                <a:lnTo>
                  <a:pt x="77524" y="1400"/>
                </a:lnTo>
                <a:close/>
              </a:path>
              <a:path fill="darkenLess" w="78924" h="21600">
                <a:moveTo>
                  <a:pt x="78924" y="21600"/>
                </a:moveTo>
                <a:lnTo>
                  <a:pt x="0" y="21600"/>
                </a:lnTo>
                <a:lnTo>
                  <a:pt x="1400" y="20200"/>
                </a:lnTo>
                <a:lnTo>
                  <a:pt x="77524" y="20200"/>
                </a:lnTo>
                <a:close/>
              </a:path>
              <a:path fill="lighten" w="78924" h="21600">
                <a:moveTo>
                  <a:pt x="0" y="21600"/>
                </a:moveTo>
                <a:lnTo>
                  <a:pt x="0" y="0"/>
                </a:lnTo>
                <a:lnTo>
                  <a:pt x="1400" y="1400"/>
                </a:lnTo>
                <a:lnTo>
                  <a:pt x="1400" y="20200"/>
                </a:lnTo>
                <a:close/>
              </a:path>
              <a:path fill="darken" w="78924" h="21600">
                <a:moveTo>
                  <a:pt x="32455" y="7493"/>
                </a:moveTo>
                <a:lnTo>
                  <a:pt x="35963" y="7493"/>
                </a:lnTo>
                <a:lnTo>
                  <a:pt x="35963" y="12828"/>
                </a:lnTo>
                <a:cubicBezTo>
                  <a:pt x="35963" y="13751"/>
                  <a:pt x="36764" y="14482"/>
                  <a:pt x="37800" y="14482"/>
                </a:cubicBezTo>
                <a:lnTo>
                  <a:pt x="39462" y="14482"/>
                </a:lnTo>
                <a:cubicBezTo>
                  <a:pt x="40498" y="14482"/>
                  <a:pt x="41298" y="13751"/>
                  <a:pt x="41298" y="12828"/>
                </a:cubicBezTo>
                <a:lnTo>
                  <a:pt x="41298" y="7493"/>
                </a:lnTo>
                <a:lnTo>
                  <a:pt x="39462" y="7493"/>
                </a:lnTo>
                <a:lnTo>
                  <a:pt x="42970" y="3985"/>
                </a:lnTo>
                <a:lnTo>
                  <a:pt x="46642" y="7493"/>
                </a:lnTo>
                <a:lnTo>
                  <a:pt x="44806" y="7493"/>
                </a:lnTo>
                <a:lnTo>
                  <a:pt x="44806" y="12828"/>
                </a:lnTo>
                <a:cubicBezTo>
                  <a:pt x="44806" y="15596"/>
                  <a:pt x="42230" y="18155"/>
                  <a:pt x="39462" y="18155"/>
                </a:cubicBezTo>
                <a:lnTo>
                  <a:pt x="37800" y="18155"/>
                </a:lnTo>
                <a:cubicBezTo>
                  <a:pt x="35032" y="18155"/>
                  <a:pt x="32455" y="15596"/>
                  <a:pt x="32455"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E594590-32D8-43CA-8605-8C364E77E9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108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POSIBLES SOLUCIONES</a:t>
            </a:r>
            <a:endParaRPr b="0" lang="en-US" sz="4400" spc="-1" strike="noStrike">
              <a:solidFill>
                <a:srgbClr val="000000"/>
              </a:solidFill>
              <a:latin typeface="Arial"/>
            </a:endParaRPr>
          </a:p>
        </p:txBody>
      </p:sp>
      <p:sp>
        <p:nvSpPr>
          <p:cNvPr id="73" name="PlaceHolder 2"/>
          <p:cNvSpPr>
            <a:spLocks noGrp="1"/>
          </p:cNvSpPr>
          <p:nvPr>
            <p:ph/>
          </p:nvPr>
        </p:nvSpPr>
        <p:spPr>
          <a:xfrm>
            <a:off x="468360" y="233208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NO HACER LA FIESTA</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ONTRATAR UN SONIDO</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HACER TODO PARA SONORIZAR</a:t>
            </a:r>
            <a:endParaRPr b="0" lang="en-US" sz="3200" spc="-1" strike="noStrike">
              <a:solidFill>
                <a:srgbClr val="000000"/>
              </a:solidFill>
              <a:latin typeface="Arial"/>
            </a:endParaRPr>
          </a:p>
        </p:txBody>
      </p:sp>
      <p:sp>
        <p:nvSpPr>
          <p:cNvPr id="74" name="">
            <a:hlinkClick r:id="" action="ppaction://hlinkshowjump?jump=previousslide"/>
          </p:cNvPr>
          <p:cNvSpPr/>
          <p:nvPr/>
        </p:nvSpPr>
        <p:spPr>
          <a:xfrm>
            <a:off x="250920" y="6165720"/>
            <a:ext cx="1042920" cy="466920"/>
          </a:xfrm>
          <a:custGeom>
            <a:avLst/>
            <a:gdLst>
              <a:gd name="textAreaLeft" fmla="*/ 30240 w 1042920"/>
              <a:gd name="textAreaRight" fmla="*/ 1012680 w 1042920"/>
              <a:gd name="textAreaTop" fmla="*/ 30240 h 466920"/>
              <a:gd name="textAreaBottom" fmla="*/ 436680 h 466920"/>
            </a:gdLst>
            <a:ahLst/>
            <a:rect l="textAreaLeft" t="textAreaTop" r="textAreaRight" b="textAreaBottom"/>
            <a:pathLst>
              <a:path w="48226" h="21600">
                <a:moveTo>
                  <a:pt x="0" y="0"/>
                </a:moveTo>
                <a:lnTo>
                  <a:pt x="48226" y="0"/>
                </a:lnTo>
                <a:lnTo>
                  <a:pt x="48226" y="21600"/>
                </a:lnTo>
                <a:lnTo>
                  <a:pt x="0" y="21600"/>
                </a:lnTo>
                <a:close/>
              </a:path>
              <a:path fill="lightenLess" w="48226" h="21600">
                <a:moveTo>
                  <a:pt x="0" y="0"/>
                </a:moveTo>
                <a:lnTo>
                  <a:pt x="48226" y="0"/>
                </a:lnTo>
                <a:lnTo>
                  <a:pt x="46826" y="1400"/>
                </a:lnTo>
                <a:lnTo>
                  <a:pt x="1400" y="1400"/>
                </a:lnTo>
                <a:close/>
              </a:path>
              <a:path fill="darken" w="48226" h="21600">
                <a:moveTo>
                  <a:pt x="48226" y="0"/>
                </a:moveTo>
                <a:lnTo>
                  <a:pt x="48226" y="21600"/>
                </a:lnTo>
                <a:lnTo>
                  <a:pt x="46826" y="20200"/>
                </a:lnTo>
                <a:lnTo>
                  <a:pt x="46826" y="1400"/>
                </a:lnTo>
                <a:close/>
              </a:path>
              <a:path fill="darkenLess" w="48226" h="21600">
                <a:moveTo>
                  <a:pt x="48226" y="21600"/>
                </a:moveTo>
                <a:lnTo>
                  <a:pt x="0" y="21600"/>
                </a:lnTo>
                <a:lnTo>
                  <a:pt x="1400" y="20200"/>
                </a:lnTo>
                <a:lnTo>
                  <a:pt x="46826" y="20200"/>
                </a:lnTo>
                <a:close/>
              </a:path>
              <a:path fill="lighten" w="48226" h="21600">
                <a:moveTo>
                  <a:pt x="0" y="21600"/>
                </a:moveTo>
                <a:lnTo>
                  <a:pt x="0" y="0"/>
                </a:lnTo>
                <a:lnTo>
                  <a:pt x="1400" y="1400"/>
                </a:lnTo>
                <a:lnTo>
                  <a:pt x="1400" y="20200"/>
                </a:lnTo>
                <a:close/>
              </a:path>
              <a:path fill="darken" w="48226" h="21600">
                <a:moveTo>
                  <a:pt x="17106" y="10800"/>
                </a:moveTo>
                <a:lnTo>
                  <a:pt x="31119" y="3794"/>
                </a:lnTo>
                <a:lnTo>
                  <a:pt x="3111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a:hlinkClick r:id="" action="ppaction://hlinkshowjump?jump=nextslide"/>
          </p:cNvPr>
          <p:cNvSpPr/>
          <p:nvPr/>
        </p:nvSpPr>
        <p:spPr>
          <a:xfrm>
            <a:off x="7451640" y="6165720"/>
            <a:ext cx="1297080" cy="405000"/>
          </a:xfrm>
          <a:custGeom>
            <a:avLst/>
            <a:gdLst>
              <a:gd name="textAreaLeft" fmla="*/ 25920 w 1297080"/>
              <a:gd name="textAreaRight" fmla="*/ 1271160 w 1297080"/>
              <a:gd name="textAreaTop" fmla="*/ 25920 h 405000"/>
              <a:gd name="textAreaBottom" fmla="*/ 379080 h 405000"/>
            </a:gdLst>
            <a:ahLst/>
            <a:rect l="textAreaLeft" t="textAreaTop" r="textAreaRight" b="textAreaBottom"/>
            <a:pathLst>
              <a:path w="69135" h="21600">
                <a:moveTo>
                  <a:pt x="0" y="0"/>
                </a:moveTo>
                <a:lnTo>
                  <a:pt x="69135" y="0"/>
                </a:lnTo>
                <a:lnTo>
                  <a:pt x="69135" y="21600"/>
                </a:lnTo>
                <a:lnTo>
                  <a:pt x="0" y="21600"/>
                </a:lnTo>
                <a:close/>
              </a:path>
              <a:path fill="lightenLess" w="69135" h="21600">
                <a:moveTo>
                  <a:pt x="0" y="0"/>
                </a:moveTo>
                <a:lnTo>
                  <a:pt x="69135" y="0"/>
                </a:lnTo>
                <a:lnTo>
                  <a:pt x="67735" y="1400"/>
                </a:lnTo>
                <a:lnTo>
                  <a:pt x="1400" y="1400"/>
                </a:lnTo>
                <a:close/>
              </a:path>
              <a:path fill="darken" w="69135" h="21600">
                <a:moveTo>
                  <a:pt x="69135" y="0"/>
                </a:moveTo>
                <a:lnTo>
                  <a:pt x="69135" y="21600"/>
                </a:lnTo>
                <a:lnTo>
                  <a:pt x="67735" y="20200"/>
                </a:lnTo>
                <a:lnTo>
                  <a:pt x="67735" y="1400"/>
                </a:lnTo>
                <a:close/>
              </a:path>
              <a:path fill="darkenLess" w="69135" h="21600">
                <a:moveTo>
                  <a:pt x="69135" y="21600"/>
                </a:moveTo>
                <a:lnTo>
                  <a:pt x="0" y="21600"/>
                </a:lnTo>
                <a:lnTo>
                  <a:pt x="1400" y="20200"/>
                </a:lnTo>
                <a:lnTo>
                  <a:pt x="67735" y="20200"/>
                </a:lnTo>
                <a:close/>
              </a:path>
              <a:path fill="lighten" w="69135" h="21600">
                <a:moveTo>
                  <a:pt x="0" y="21600"/>
                </a:moveTo>
                <a:lnTo>
                  <a:pt x="0" y="0"/>
                </a:lnTo>
                <a:lnTo>
                  <a:pt x="1400" y="1400"/>
                </a:lnTo>
                <a:lnTo>
                  <a:pt x="1400" y="20200"/>
                </a:lnTo>
                <a:close/>
              </a:path>
              <a:path fill="darken" w="69135" h="21600">
                <a:moveTo>
                  <a:pt x="27561" y="3794"/>
                </a:moveTo>
                <a:lnTo>
                  <a:pt x="41574" y="10800"/>
                </a:lnTo>
                <a:lnTo>
                  <a:pt x="275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a:hlinkClick r:id="rId4" action="ppaction://hlinksldjump"/>
          </p:cNvPr>
          <p:cNvSpPr/>
          <p:nvPr/>
        </p:nvSpPr>
        <p:spPr>
          <a:xfrm>
            <a:off x="3708360" y="6165720"/>
            <a:ext cx="1440000" cy="393840"/>
          </a:xfrm>
          <a:custGeom>
            <a:avLst/>
            <a:gdLst>
              <a:gd name="textAreaLeft" fmla="*/ 25200 w 1440000"/>
              <a:gd name="textAreaRight" fmla="*/ 1414800 w 1440000"/>
              <a:gd name="textAreaTop" fmla="*/ 25200 h 393840"/>
              <a:gd name="textAreaBottom" fmla="*/ 368640 h 393840"/>
            </a:gdLst>
            <a:ahLst/>
            <a:rect l="textAreaLeft" t="textAreaTop" r="textAreaRight" b="textAreaBottom"/>
            <a:pathLst>
              <a:path w="78924" h="21600">
                <a:moveTo>
                  <a:pt x="0" y="0"/>
                </a:moveTo>
                <a:lnTo>
                  <a:pt x="78924" y="0"/>
                </a:lnTo>
                <a:lnTo>
                  <a:pt x="78924" y="21600"/>
                </a:lnTo>
                <a:lnTo>
                  <a:pt x="0" y="21600"/>
                </a:lnTo>
                <a:close/>
              </a:path>
              <a:path fill="lightenLess" w="78924" h="21600">
                <a:moveTo>
                  <a:pt x="0" y="0"/>
                </a:moveTo>
                <a:lnTo>
                  <a:pt x="78924" y="0"/>
                </a:lnTo>
                <a:lnTo>
                  <a:pt x="77524" y="1400"/>
                </a:lnTo>
                <a:lnTo>
                  <a:pt x="1400" y="1400"/>
                </a:lnTo>
                <a:close/>
              </a:path>
              <a:path fill="darken" w="78924" h="21600">
                <a:moveTo>
                  <a:pt x="78924" y="0"/>
                </a:moveTo>
                <a:lnTo>
                  <a:pt x="78924" y="21600"/>
                </a:lnTo>
                <a:lnTo>
                  <a:pt x="77524" y="20200"/>
                </a:lnTo>
                <a:lnTo>
                  <a:pt x="77524" y="1400"/>
                </a:lnTo>
                <a:close/>
              </a:path>
              <a:path fill="darkenLess" w="78924" h="21600">
                <a:moveTo>
                  <a:pt x="78924" y="21600"/>
                </a:moveTo>
                <a:lnTo>
                  <a:pt x="0" y="21600"/>
                </a:lnTo>
                <a:lnTo>
                  <a:pt x="1400" y="20200"/>
                </a:lnTo>
                <a:lnTo>
                  <a:pt x="77524" y="20200"/>
                </a:lnTo>
                <a:close/>
              </a:path>
              <a:path fill="lighten" w="78924" h="21600">
                <a:moveTo>
                  <a:pt x="0" y="21600"/>
                </a:moveTo>
                <a:lnTo>
                  <a:pt x="0" y="0"/>
                </a:lnTo>
                <a:lnTo>
                  <a:pt x="1400" y="1400"/>
                </a:lnTo>
                <a:lnTo>
                  <a:pt x="1400" y="20200"/>
                </a:lnTo>
                <a:close/>
              </a:path>
              <a:path fill="darken" w="78924" h="21600">
                <a:moveTo>
                  <a:pt x="32455" y="7493"/>
                </a:moveTo>
                <a:lnTo>
                  <a:pt x="35963" y="7493"/>
                </a:lnTo>
                <a:lnTo>
                  <a:pt x="35963" y="12828"/>
                </a:lnTo>
                <a:cubicBezTo>
                  <a:pt x="35963" y="13751"/>
                  <a:pt x="36764" y="14482"/>
                  <a:pt x="37800" y="14482"/>
                </a:cubicBezTo>
                <a:lnTo>
                  <a:pt x="39462" y="14482"/>
                </a:lnTo>
                <a:cubicBezTo>
                  <a:pt x="40498" y="14482"/>
                  <a:pt x="41298" y="13751"/>
                  <a:pt x="41298" y="12828"/>
                </a:cubicBezTo>
                <a:lnTo>
                  <a:pt x="41298" y="7493"/>
                </a:lnTo>
                <a:lnTo>
                  <a:pt x="39462" y="7493"/>
                </a:lnTo>
                <a:lnTo>
                  <a:pt x="42970" y="3985"/>
                </a:lnTo>
                <a:lnTo>
                  <a:pt x="46642" y="7493"/>
                </a:lnTo>
                <a:lnTo>
                  <a:pt x="44806" y="7493"/>
                </a:lnTo>
                <a:lnTo>
                  <a:pt x="44806" y="12828"/>
                </a:lnTo>
                <a:cubicBezTo>
                  <a:pt x="44806" y="15596"/>
                  <a:pt x="42230" y="18155"/>
                  <a:pt x="39462" y="18155"/>
                </a:cubicBezTo>
                <a:lnTo>
                  <a:pt x="37800" y="18155"/>
                </a:lnTo>
                <a:cubicBezTo>
                  <a:pt x="35032" y="18155"/>
                  <a:pt x="32455" y="15596"/>
                  <a:pt x="32455"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FFF6F66-1A91-4243-8E12-FAADC1630A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path path="rect">
            <a:fillToRect l="50000" t="50000" r="50000" b="50000"/>
          </a:path>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JUSTIFICACION</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HACERLO TODO PORQUE SI NO HACE LA FIESTA, SUS PAPÁS NO LA VAN A DEJAR HACER NADA MAS Y NO TIENE DINERO PARA CONTRATAR UN SONIDO ADEMAS SU CASA NO ES TAN GRANDE COMO PARA UN SONIDO.</a:t>
            </a:r>
            <a:endParaRPr b="0" lang="en-US" sz="3200" spc="-1" strike="noStrike">
              <a:solidFill>
                <a:srgbClr val="000000"/>
              </a:solidFill>
              <a:latin typeface="Arial"/>
            </a:endParaRPr>
          </a:p>
        </p:txBody>
      </p:sp>
      <p:sp>
        <p:nvSpPr>
          <p:cNvPr id="79" name="">
            <a:hlinkClick r:id="" action="ppaction://hlinkshowjump?jump=previousslide"/>
          </p:cNvPr>
          <p:cNvSpPr/>
          <p:nvPr/>
        </p:nvSpPr>
        <p:spPr>
          <a:xfrm>
            <a:off x="250920" y="6165720"/>
            <a:ext cx="1042920" cy="466920"/>
          </a:xfrm>
          <a:custGeom>
            <a:avLst/>
            <a:gdLst>
              <a:gd name="textAreaLeft" fmla="*/ 30240 w 1042920"/>
              <a:gd name="textAreaRight" fmla="*/ 1012680 w 1042920"/>
              <a:gd name="textAreaTop" fmla="*/ 30240 h 466920"/>
              <a:gd name="textAreaBottom" fmla="*/ 436680 h 466920"/>
            </a:gdLst>
            <a:ahLst/>
            <a:rect l="textAreaLeft" t="textAreaTop" r="textAreaRight" b="textAreaBottom"/>
            <a:pathLst>
              <a:path w="48226" h="21600">
                <a:moveTo>
                  <a:pt x="0" y="0"/>
                </a:moveTo>
                <a:lnTo>
                  <a:pt x="48226" y="0"/>
                </a:lnTo>
                <a:lnTo>
                  <a:pt x="48226" y="21600"/>
                </a:lnTo>
                <a:lnTo>
                  <a:pt x="0" y="21600"/>
                </a:lnTo>
                <a:close/>
              </a:path>
              <a:path fill="lightenLess" w="48226" h="21600">
                <a:moveTo>
                  <a:pt x="0" y="0"/>
                </a:moveTo>
                <a:lnTo>
                  <a:pt x="48226" y="0"/>
                </a:lnTo>
                <a:lnTo>
                  <a:pt x="46826" y="1400"/>
                </a:lnTo>
                <a:lnTo>
                  <a:pt x="1400" y="1400"/>
                </a:lnTo>
                <a:close/>
              </a:path>
              <a:path fill="darken" w="48226" h="21600">
                <a:moveTo>
                  <a:pt x="48226" y="0"/>
                </a:moveTo>
                <a:lnTo>
                  <a:pt x="48226" y="21600"/>
                </a:lnTo>
                <a:lnTo>
                  <a:pt x="46826" y="20200"/>
                </a:lnTo>
                <a:lnTo>
                  <a:pt x="46826" y="1400"/>
                </a:lnTo>
                <a:close/>
              </a:path>
              <a:path fill="darkenLess" w="48226" h="21600">
                <a:moveTo>
                  <a:pt x="48226" y="21600"/>
                </a:moveTo>
                <a:lnTo>
                  <a:pt x="0" y="21600"/>
                </a:lnTo>
                <a:lnTo>
                  <a:pt x="1400" y="20200"/>
                </a:lnTo>
                <a:lnTo>
                  <a:pt x="46826" y="20200"/>
                </a:lnTo>
                <a:close/>
              </a:path>
              <a:path fill="lighten" w="48226" h="21600">
                <a:moveTo>
                  <a:pt x="0" y="21600"/>
                </a:moveTo>
                <a:lnTo>
                  <a:pt x="0" y="0"/>
                </a:lnTo>
                <a:lnTo>
                  <a:pt x="1400" y="1400"/>
                </a:lnTo>
                <a:lnTo>
                  <a:pt x="1400" y="20200"/>
                </a:lnTo>
                <a:close/>
              </a:path>
              <a:path fill="darken" w="48226" h="21600">
                <a:moveTo>
                  <a:pt x="17106" y="10800"/>
                </a:moveTo>
                <a:lnTo>
                  <a:pt x="31119" y="3794"/>
                </a:lnTo>
                <a:lnTo>
                  <a:pt x="3111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a:hlinkClick r:id="" action="ppaction://hlinkshowjump?jump=nextslide"/>
          </p:cNvPr>
          <p:cNvSpPr/>
          <p:nvPr/>
        </p:nvSpPr>
        <p:spPr>
          <a:xfrm>
            <a:off x="7451640" y="6165720"/>
            <a:ext cx="1297080" cy="405000"/>
          </a:xfrm>
          <a:custGeom>
            <a:avLst/>
            <a:gdLst>
              <a:gd name="textAreaLeft" fmla="*/ 25920 w 1297080"/>
              <a:gd name="textAreaRight" fmla="*/ 1271160 w 1297080"/>
              <a:gd name="textAreaTop" fmla="*/ 25920 h 405000"/>
              <a:gd name="textAreaBottom" fmla="*/ 379080 h 405000"/>
            </a:gdLst>
            <a:ahLst/>
            <a:rect l="textAreaLeft" t="textAreaTop" r="textAreaRight" b="textAreaBottom"/>
            <a:pathLst>
              <a:path w="69135" h="21600">
                <a:moveTo>
                  <a:pt x="0" y="0"/>
                </a:moveTo>
                <a:lnTo>
                  <a:pt x="69135" y="0"/>
                </a:lnTo>
                <a:lnTo>
                  <a:pt x="69135" y="21600"/>
                </a:lnTo>
                <a:lnTo>
                  <a:pt x="0" y="21600"/>
                </a:lnTo>
                <a:close/>
              </a:path>
              <a:path fill="lightenLess" w="69135" h="21600">
                <a:moveTo>
                  <a:pt x="0" y="0"/>
                </a:moveTo>
                <a:lnTo>
                  <a:pt x="69135" y="0"/>
                </a:lnTo>
                <a:lnTo>
                  <a:pt x="67735" y="1400"/>
                </a:lnTo>
                <a:lnTo>
                  <a:pt x="1400" y="1400"/>
                </a:lnTo>
                <a:close/>
              </a:path>
              <a:path fill="darken" w="69135" h="21600">
                <a:moveTo>
                  <a:pt x="69135" y="0"/>
                </a:moveTo>
                <a:lnTo>
                  <a:pt x="69135" y="21600"/>
                </a:lnTo>
                <a:lnTo>
                  <a:pt x="67735" y="20200"/>
                </a:lnTo>
                <a:lnTo>
                  <a:pt x="67735" y="1400"/>
                </a:lnTo>
                <a:close/>
              </a:path>
              <a:path fill="darkenLess" w="69135" h="21600">
                <a:moveTo>
                  <a:pt x="69135" y="21600"/>
                </a:moveTo>
                <a:lnTo>
                  <a:pt x="0" y="21600"/>
                </a:lnTo>
                <a:lnTo>
                  <a:pt x="1400" y="20200"/>
                </a:lnTo>
                <a:lnTo>
                  <a:pt x="67735" y="20200"/>
                </a:lnTo>
                <a:close/>
              </a:path>
              <a:path fill="lighten" w="69135" h="21600">
                <a:moveTo>
                  <a:pt x="0" y="21600"/>
                </a:moveTo>
                <a:lnTo>
                  <a:pt x="0" y="0"/>
                </a:lnTo>
                <a:lnTo>
                  <a:pt x="1400" y="1400"/>
                </a:lnTo>
                <a:lnTo>
                  <a:pt x="1400" y="20200"/>
                </a:lnTo>
                <a:close/>
              </a:path>
              <a:path fill="darken" w="69135" h="21600">
                <a:moveTo>
                  <a:pt x="27561" y="3794"/>
                </a:moveTo>
                <a:lnTo>
                  <a:pt x="41574" y="10800"/>
                </a:lnTo>
                <a:lnTo>
                  <a:pt x="275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a:hlinkClick r:id="rId2" action="ppaction://hlinksldjump"/>
          </p:cNvPr>
          <p:cNvSpPr/>
          <p:nvPr/>
        </p:nvSpPr>
        <p:spPr>
          <a:xfrm>
            <a:off x="3924360" y="6165720"/>
            <a:ext cx="1439640" cy="393840"/>
          </a:xfrm>
          <a:custGeom>
            <a:avLst/>
            <a:gdLst>
              <a:gd name="textAreaLeft" fmla="*/ 25200 w 1439640"/>
              <a:gd name="textAreaRight" fmla="*/ 1414440 w 1439640"/>
              <a:gd name="textAreaTop" fmla="*/ 25200 h 393840"/>
              <a:gd name="textAreaBottom" fmla="*/ 368640 h 393840"/>
            </a:gdLst>
            <a:ahLst/>
            <a:rect l="textAreaLeft" t="textAreaTop" r="textAreaRight" b="textAreaBottom"/>
            <a:pathLst>
              <a:path w="78904" h="21600">
                <a:moveTo>
                  <a:pt x="0" y="0"/>
                </a:moveTo>
                <a:lnTo>
                  <a:pt x="78904" y="0"/>
                </a:lnTo>
                <a:lnTo>
                  <a:pt x="78904" y="21600"/>
                </a:lnTo>
                <a:lnTo>
                  <a:pt x="0" y="21600"/>
                </a:lnTo>
                <a:close/>
              </a:path>
              <a:path fill="lightenLess" w="78904" h="21600">
                <a:moveTo>
                  <a:pt x="0" y="0"/>
                </a:moveTo>
                <a:lnTo>
                  <a:pt x="78904" y="0"/>
                </a:lnTo>
                <a:lnTo>
                  <a:pt x="77504" y="1400"/>
                </a:lnTo>
                <a:lnTo>
                  <a:pt x="1400" y="1400"/>
                </a:lnTo>
                <a:close/>
              </a:path>
              <a:path fill="darken" w="78904" h="21600">
                <a:moveTo>
                  <a:pt x="78904" y="0"/>
                </a:moveTo>
                <a:lnTo>
                  <a:pt x="78904" y="21600"/>
                </a:lnTo>
                <a:lnTo>
                  <a:pt x="77504" y="20200"/>
                </a:lnTo>
                <a:lnTo>
                  <a:pt x="77504" y="1400"/>
                </a:lnTo>
                <a:close/>
              </a:path>
              <a:path fill="darkenLess" w="78904" h="21600">
                <a:moveTo>
                  <a:pt x="78904" y="21600"/>
                </a:moveTo>
                <a:lnTo>
                  <a:pt x="0" y="21600"/>
                </a:lnTo>
                <a:lnTo>
                  <a:pt x="1400" y="20200"/>
                </a:lnTo>
                <a:lnTo>
                  <a:pt x="77504" y="20200"/>
                </a:lnTo>
                <a:close/>
              </a:path>
              <a:path fill="lighten" w="78904" h="21600">
                <a:moveTo>
                  <a:pt x="0" y="21600"/>
                </a:moveTo>
                <a:lnTo>
                  <a:pt x="0" y="0"/>
                </a:lnTo>
                <a:lnTo>
                  <a:pt x="1400" y="1400"/>
                </a:lnTo>
                <a:lnTo>
                  <a:pt x="1400" y="20200"/>
                </a:lnTo>
                <a:close/>
              </a:path>
              <a:path fill="darken" w="78904" h="21600">
                <a:moveTo>
                  <a:pt x="32446" y="7493"/>
                </a:moveTo>
                <a:lnTo>
                  <a:pt x="35953" y="7493"/>
                </a:lnTo>
                <a:lnTo>
                  <a:pt x="35953" y="12828"/>
                </a:lnTo>
                <a:cubicBezTo>
                  <a:pt x="35953" y="13751"/>
                  <a:pt x="36754" y="14482"/>
                  <a:pt x="37790" y="14482"/>
                </a:cubicBezTo>
                <a:lnTo>
                  <a:pt x="39452" y="14482"/>
                </a:lnTo>
                <a:cubicBezTo>
                  <a:pt x="40488" y="14482"/>
                  <a:pt x="41289" y="13751"/>
                  <a:pt x="41289" y="12828"/>
                </a:cubicBezTo>
                <a:lnTo>
                  <a:pt x="41289" y="7493"/>
                </a:lnTo>
                <a:lnTo>
                  <a:pt x="39452" y="7493"/>
                </a:lnTo>
                <a:lnTo>
                  <a:pt x="42960" y="3985"/>
                </a:lnTo>
                <a:lnTo>
                  <a:pt x="46633" y="7493"/>
                </a:lnTo>
                <a:lnTo>
                  <a:pt x="44796" y="7493"/>
                </a:lnTo>
                <a:lnTo>
                  <a:pt x="44796" y="12828"/>
                </a:lnTo>
                <a:cubicBezTo>
                  <a:pt x="44796" y="15596"/>
                  <a:pt x="42220" y="18155"/>
                  <a:pt x="39452" y="18155"/>
                </a:cubicBezTo>
                <a:lnTo>
                  <a:pt x="37790" y="18155"/>
                </a:lnTo>
                <a:cubicBezTo>
                  <a:pt x="35022" y="18155"/>
                  <a:pt x="32446" y="15596"/>
                  <a:pt x="32446"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CD2E8F2-5A0B-4709-9A5B-64CCBA2C26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2T22:48:27Z</dcterms:created>
  <dc:creator>End User</dc:creator>
  <dc:description/>
  <dc:language>en-US</dc:language>
  <cp:lastModifiedBy>ryrl</cp:lastModifiedBy>
  <dcterms:modified xsi:type="dcterms:W3CDTF">2006-04-03T16:13:38Z</dcterms:modified>
  <cp:revision>12</cp:revision>
  <dc:subject/>
  <dc:title>PROYECTO</dc:title>
</cp:coreProperties>
</file>